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0.jpeg" ContentType="image/jpeg"/>
  <Override PartName="/ppt/media/image5.png" ContentType="image/png"/>
  <Override PartName="/ppt/media/image9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3.png" ContentType="image/png"/>
  <Override PartName="/ppt/media/TYPE.WAV" ContentType="audio/x-wav"/>
  <Override PartName="/ppt/media/image8.png" ContentType="image/png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257480" y="720360"/>
            <a:ext cx="479880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73080" y="4560480"/>
            <a:ext cx="5369040" cy="43196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4"/>
          </p:nvPr>
        </p:nvSpPr>
        <p:spPr>
          <a:xfrm>
            <a:off x="4146480" y="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en-US" sz="12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en-US" sz="12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en-US" sz="12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FDCAA554-B2CA-434E-BA91-98B7B68DF360}" type="slidenum"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"/>
          <p:cNvSpPr txBox="1"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8B719AC6-6539-4CDD-B28D-B27EF133DA2A}" type="slidenum"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8" name=""/>
          <p:cNvSpPr txBox="1"/>
          <p:nvPr/>
        </p:nvSpPr>
        <p:spPr>
          <a:xfrm>
            <a:off x="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0" y="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10" name=""/>
          <p:cNvSpPr txBox="1"/>
          <p:nvPr/>
        </p:nvSpPr>
        <p:spPr>
          <a:xfrm>
            <a:off x="4146480" y="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B5F7-F00D-41EB-A37F-CFF23D683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8AD1-D292-4DAE-BE3C-A4833878E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D085-BE8E-49CB-AD50-CF9A3586E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EB21-BD74-4196-9E3A-12CC04A1B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6B7F-620D-44EE-837D-1483867D3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B662-E217-4C64-A45E-145150FCE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7531-53A1-47AE-8205-A4D754047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69F4-2E53-4558-8389-60ECD4857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7EE0-CBBE-4E1C-9724-5D94014CB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69FA-389D-4EF4-8F41-0F58DDF1D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2A8F-6E5D-497F-907F-B4021EE29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DB40-C0F9-41F9-B978-57EBEA2C6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228600"/>
            <a:ext cx="2438280" cy="6627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"/>
          <p:cNvSpPr/>
          <p:nvPr/>
        </p:nvSpPr>
        <p:spPr>
          <a:xfrm>
            <a:off x="0" y="0"/>
            <a:ext cx="2438280" cy="228600"/>
          </a:xfrm>
          <a:prstGeom prst="rect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"/>
          <p:cNvSpPr/>
          <p:nvPr/>
        </p:nvSpPr>
        <p:spPr>
          <a:xfrm>
            <a:off x="2438280" y="0"/>
            <a:ext cx="670428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77720" y="609120"/>
            <a:ext cx="58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440080" y="6627960"/>
            <a:ext cx="670392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629400"/>
            <a:ext cx="2438280" cy="227160"/>
          </a:xfrm>
          <a:prstGeom prst="rect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" name=""/>
          <p:cNvSpPr/>
          <p:nvPr/>
        </p:nvSpPr>
        <p:spPr>
          <a:xfrm>
            <a:off x="2440080" y="6626160"/>
            <a:ext cx="670392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5333760" y="662760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00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E39DA-39E0-426E-A8A9-3F044FB0069E}" type="datetime3">
              <a:rPr b="0" lang="en-US" sz="1000" spc="-1" strike="noStrike">
                <a:solidFill>
                  <a:srgbClr val="ff0033"/>
                </a:solidFill>
                <a:latin typeface="Arial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2438280" y="662760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0033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3"/>
          </p:nvPr>
        </p:nvSpPr>
        <p:spPr>
          <a:xfrm>
            <a:off x="7238880" y="662760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003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8F763-4CEE-480B-9B15-BACC805A0B68}" type="slidenum">
              <a:rPr b="0" lang="en-US" sz="1000" spc="-1" strike="noStrike">
                <a:solidFill>
                  <a:srgbClr val="ff003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" name="">
            <a:hlinkClick r:id="" action="ppaction://hlinkshowjump?jump=nextslide"/>
          </p:cNvPr>
          <p:cNvSpPr/>
          <p:nvPr/>
        </p:nvSpPr>
        <p:spPr>
          <a:xfrm>
            <a:off x="1866960" y="6665760"/>
            <a:ext cx="171360" cy="166680"/>
          </a:xfrm>
          <a:prstGeom prst="diamond">
            <a:avLst/>
          </a:prstGeom>
          <a:solidFill>
            <a:srgbClr val="0066ff"/>
          </a:solidFill>
          <a:ln cap="sq"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8" name=""/>
          <p:cNvSpPr/>
          <p:nvPr/>
        </p:nvSpPr>
        <p:spPr>
          <a:xfrm>
            <a:off x="1800360" y="6642000"/>
            <a:ext cx="152280" cy="209520"/>
          </a:xfrm>
          <a:prstGeom prst="rect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04920" y="6667560"/>
            <a:ext cx="171360" cy="166680"/>
          </a:xfrm>
          <a:prstGeom prst="diamond">
            <a:avLst/>
          </a:prstGeom>
          <a:solidFill>
            <a:srgbClr val="0066ff"/>
          </a:solidFill>
          <a:ln cap="sq"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" name=""/>
          <p:cNvSpPr/>
          <p:nvPr/>
        </p:nvSpPr>
        <p:spPr>
          <a:xfrm>
            <a:off x="393840" y="6637320"/>
            <a:ext cx="152280" cy="209520"/>
          </a:xfrm>
          <a:prstGeom prst="rect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1" name="">
            <a:hlinkClick r:id="" action="ppaction://hlinkshowjump?jump=previousslide"/>
          </p:cNvPr>
          <p:cNvSpPr/>
          <p:nvPr/>
        </p:nvSpPr>
        <p:spPr>
          <a:xfrm>
            <a:off x="423720" y="6657840"/>
            <a:ext cx="795600" cy="1825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previous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1262160" y="6659640"/>
            <a:ext cx="669960" cy="1807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6920" y="3321000"/>
            <a:ext cx="175320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0" lang="en-GB" sz="3200" spc="-1" strike="noStrike" baseline="-20000">
                <a:solidFill>
                  <a:srgbClr val="0000ff"/>
                </a:solidFill>
                <a:latin typeface="Arial"/>
              </a:rPr>
              <a:t>2g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 state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4100400"/>
            <a:ext cx="9144000" cy="27576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752480" y="609480"/>
            <a:ext cx="5715000" cy="30751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rystal Field Effects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0" name=""/>
          <p:cNvSpPr/>
          <p:nvPr/>
        </p:nvSpPr>
        <p:spPr>
          <a:xfrm>
            <a:off x="160920" y="501480"/>
            <a:ext cx="173520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e</a:t>
            </a:r>
            <a:r>
              <a:rPr b="0" lang="en-GB" sz="3200" spc="-1" strike="noStrike" baseline="-20000">
                <a:solidFill>
                  <a:srgbClr val="0000ff"/>
                </a:solidFill>
                <a:latin typeface="Arial"/>
              </a:rPr>
              <a:t>g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 state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42636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Effect of 10Dq on XAS:3d</a:t>
            </a:r>
            <a:r>
              <a:rPr b="1" lang="en-US" sz="3600" spc="-1" strike="noStrike" baseline="30000">
                <a:solidFill>
                  <a:srgbClr val="0000ff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Effect of 10Dq on XAS:3d</a:t>
            </a:r>
            <a:r>
              <a:rPr b="1" lang="en-US" sz="3600" spc="-1" strike="noStrike" baseline="30000">
                <a:solidFill>
                  <a:srgbClr val="0000ff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838080"/>
            <a:ext cx="9144000" cy="3080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3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Verdana"/>
                <a:ea typeface="Arial Unicode MS"/>
              </a:rPr>
              <a:t>EXERCISE: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30000"/>
              </a:lnSpc>
              <a:buClr>
                <a:srgbClr val="333399"/>
              </a:buClr>
              <a:buFont typeface="Verdana"/>
              <a:buAutoNum type="arabicPeriod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Verdana"/>
                <a:ea typeface="Arial Unicode MS"/>
              </a:rPr>
              <a:t>Try to reproduce this figure by calculating the crystal field multiplet spectrum of Ti4+ as a function of the crystal field strength. The parameter to change is the value of the line "</a:t>
            </a:r>
            <a:r>
              <a:rPr b="1" lang="en-GB" sz="2400" spc="-1" strike="noStrike">
                <a:solidFill>
                  <a:srgbClr val="333399"/>
                </a:solidFill>
                <a:latin typeface="Verdana"/>
                <a:ea typeface="MS Mincho"/>
              </a:rPr>
              <a:t>BRANCH 4+ &gt; 0 0+     0.00</a:t>
            </a:r>
            <a:r>
              <a:rPr b="0" lang="en-GB" sz="2000" spc="-1" strike="noStrike">
                <a:solidFill>
                  <a:srgbClr val="333399"/>
                </a:solidFill>
                <a:latin typeface="Verdana"/>
                <a:ea typeface="MS Mincho"/>
              </a:rPr>
              <a:t>".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30000"/>
              </a:lnSpc>
              <a:buClr>
                <a:srgbClr val="333399"/>
              </a:buClr>
              <a:buFont typeface="Verdana"/>
              <a:buAutoNum type="arabicPeriod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Verdana"/>
                <a:ea typeface="Arial Unicode MS"/>
              </a:rPr>
              <a:t>Set the crystal field values to </a:t>
            </a:r>
            <a:r>
              <a:rPr b="1" lang="en-GB" sz="2000" spc="-1" strike="noStrike">
                <a:solidFill>
                  <a:srgbClr val="333399"/>
                </a:solidFill>
                <a:latin typeface="Verdana"/>
                <a:ea typeface="Arial Unicode MS"/>
              </a:rPr>
              <a:t>negative numbers</a:t>
            </a:r>
            <a:r>
              <a:rPr b="0" lang="en-GB" sz="2000" spc="-1" strike="noStrike">
                <a:solidFill>
                  <a:srgbClr val="333399"/>
                </a:solidFill>
                <a:latin typeface="Verdana"/>
                <a:ea typeface="Arial Unicode MS"/>
              </a:rPr>
              <a:t> (this inverts the ordering of t</a:t>
            </a:r>
            <a:r>
              <a:rPr b="0" lang="en-GB" sz="2000" spc="-1" strike="noStrike" baseline="-25000">
                <a:solidFill>
                  <a:srgbClr val="333399"/>
                </a:solidFill>
                <a:latin typeface="Verdana"/>
                <a:ea typeface="Arial Unicode MS"/>
              </a:rPr>
              <a:t>2g</a:t>
            </a:r>
            <a:r>
              <a:rPr b="0" lang="en-GB" sz="2000" spc="-1" strike="noStrike">
                <a:solidFill>
                  <a:srgbClr val="333399"/>
                </a:solidFill>
                <a:latin typeface="Verdana"/>
                <a:ea typeface="Arial Unicode MS"/>
              </a:rPr>
              <a:t> and e</a:t>
            </a:r>
            <a:r>
              <a:rPr b="0" lang="en-GB" sz="2000" spc="-1" strike="noStrike" baseline="-25000">
                <a:solidFill>
                  <a:srgbClr val="333399"/>
                </a:solidFill>
                <a:latin typeface="Verdana"/>
                <a:ea typeface="Arial Unicode MS"/>
              </a:rPr>
              <a:t>g</a:t>
            </a:r>
            <a:r>
              <a:rPr b="0" lang="en-GB" sz="2000" spc="-1" strike="noStrike">
                <a:solidFill>
                  <a:srgbClr val="333399"/>
                </a:solidFill>
                <a:latin typeface="Verdana"/>
                <a:ea typeface="Arial Unicode MS"/>
              </a:rPr>
              <a:t> states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8610480" cy="588348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omparison with Experiment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omparison with Experiment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0" y="546120"/>
            <a:ext cx="8077320" cy="586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als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4ti4a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.rcg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1676520"/>
            <a:ext cx="11430000" cy="277092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10    1    0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Arial Unicode MS"/>
              </a:rPr>
              <a:t>14    2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4    1    1 SHELL0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Arial Unicode MS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000000 SPIN0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Arial Unicode MS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000000 INTER8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0                         </a:t>
            </a:r>
            <a:r>
              <a:rPr b="1" lang="en-GB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80998080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   8065.47800     0000000       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1     2 1 12 1 10         00      9 00000000 0 8065.4790 .00       1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P 6  S 0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P 5  D 1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Ti4+ 2p06 3d00     1    0.0000    0.0000    0.0000    0.0000    0.0000HR99999999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Ti4+ 2p05 3d01     6  464.8110    3.7762    0.0322    6.3023    4.6284HR99999999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2.6334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Ti4+ 2p06 3d00      Ti4+ 2p05 3d01        -0.26267( 2P//R1// 3D) 1.000HR  38-100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-99999999.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-1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 Unicode MS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4876920"/>
            <a:ext cx="11430000" cy="58068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0                         </a:t>
            </a:r>
            <a:r>
              <a:rPr b="1" lang="en-GB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80998080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   8065.47800     0000000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0                     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MS Mincho"/>
              </a:rPr>
              <a:t>40994040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  8065.47800     0000000       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rystal Field Effects in CTM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6" name=""/>
          <p:cNvGraphicFramePr/>
          <p:nvPr/>
        </p:nvGraphicFramePr>
        <p:xfrm>
          <a:off x="0" y="457200"/>
          <a:ext cx="8534520" cy="598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57200"/>
                    <a:ext cx="8534520" cy="598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8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urning multiplet effects off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0" y="990720"/>
            <a:ext cx="9143280" cy="4670280"/>
            <a:chOff x="0" y="990720"/>
            <a:chExt cx="9143280" cy="4670280"/>
          </a:xfrm>
        </p:grpSpPr>
        <p:grpSp>
          <p:nvGrpSpPr>
            <p:cNvPr id="350" name=""/>
            <p:cNvGrpSpPr/>
            <p:nvPr/>
          </p:nvGrpSpPr>
          <p:grpSpPr>
            <a:xfrm>
              <a:off x="9360" y="995400"/>
              <a:ext cx="9123120" cy="4660920"/>
              <a:chOff x="9360" y="995400"/>
              <a:chExt cx="9123120" cy="4660920"/>
            </a:xfrm>
          </p:grpSpPr>
          <p:grpSp>
            <p:nvGrpSpPr>
              <p:cNvPr id="351" name=""/>
              <p:cNvGrpSpPr/>
              <p:nvPr/>
            </p:nvGrpSpPr>
            <p:grpSpPr>
              <a:xfrm>
                <a:off x="9360" y="995400"/>
                <a:ext cx="1648800" cy="822240"/>
                <a:chOff x="9360" y="995400"/>
                <a:chExt cx="1648800" cy="82224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147240" y="995400"/>
                  <a:ext cx="137268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J in SO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9360" y="995400"/>
                  <a:ext cx="164880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354" name=""/>
              <p:cNvGrpSpPr/>
              <p:nvPr/>
            </p:nvGrpSpPr>
            <p:grpSpPr>
              <a:xfrm>
                <a:off x="1658880" y="995400"/>
                <a:ext cx="1186200" cy="822240"/>
                <a:chOff x="1658880" y="995400"/>
                <a:chExt cx="1186200" cy="822240"/>
              </a:xfrm>
            </p:grpSpPr>
            <p:sp>
              <p:nvSpPr>
                <p:cNvPr id="355" name=""/>
                <p:cNvSpPr/>
                <p:nvPr/>
              </p:nvSpPr>
              <p:spPr>
                <a:xfrm>
                  <a:off x="1796040" y="995400"/>
                  <a:ext cx="911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Deg.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1658880" y="995400"/>
                  <a:ext cx="118620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357" name=""/>
              <p:cNvGrpSpPr/>
              <p:nvPr/>
            </p:nvGrpSpPr>
            <p:grpSpPr>
              <a:xfrm>
                <a:off x="2846160" y="995400"/>
                <a:ext cx="3308400" cy="822240"/>
                <a:chOff x="2846160" y="995400"/>
                <a:chExt cx="3308400" cy="82224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2984400" y="995400"/>
                  <a:ext cx="30319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Branchings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2846160" y="995400"/>
                  <a:ext cx="330840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6155280" y="995400"/>
                <a:ext cx="1609560" cy="822240"/>
                <a:chOff x="6155280" y="995400"/>
                <a:chExt cx="1609560" cy="82224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6292440" y="995400"/>
                  <a:ext cx="133488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Symbol"/>
                      <a:ea typeface="Symbol"/>
                    </a:rPr>
                    <a:t>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 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in O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h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6155280" y="995400"/>
                  <a:ext cx="160956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363" name=""/>
              <p:cNvGrpSpPr/>
              <p:nvPr/>
            </p:nvGrpSpPr>
            <p:grpSpPr>
              <a:xfrm>
                <a:off x="7765920" y="995400"/>
                <a:ext cx="1366560" cy="822240"/>
                <a:chOff x="7765920" y="995400"/>
                <a:chExt cx="1366560" cy="822240"/>
              </a:xfrm>
            </p:grpSpPr>
            <p:sp>
              <p:nvSpPr>
                <p:cNvPr id="364" name=""/>
                <p:cNvSpPr/>
                <p:nvPr/>
              </p:nvSpPr>
              <p:spPr>
                <a:xfrm>
                  <a:off x="7903800" y="995400"/>
                  <a:ext cx="10904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Deg.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7765920" y="995400"/>
                  <a:ext cx="136656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366" name=""/>
              <p:cNvGrpSpPr/>
              <p:nvPr/>
            </p:nvGrpSpPr>
            <p:grpSpPr>
              <a:xfrm>
                <a:off x="9360" y="1817640"/>
                <a:ext cx="1648800" cy="639720"/>
                <a:chOff x="9360" y="1817640"/>
                <a:chExt cx="1648800" cy="63972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147240" y="1817640"/>
                  <a:ext cx="13726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9360" y="1817640"/>
                  <a:ext cx="164880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369" name=""/>
              <p:cNvGrpSpPr/>
              <p:nvPr/>
            </p:nvGrpSpPr>
            <p:grpSpPr>
              <a:xfrm>
                <a:off x="1658880" y="1817640"/>
                <a:ext cx="1186200" cy="639720"/>
                <a:chOff x="1658880" y="1817640"/>
                <a:chExt cx="1186200" cy="63972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1796040" y="1817640"/>
                  <a:ext cx="9115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1658880" y="1817640"/>
                  <a:ext cx="118620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372" name=""/>
              <p:cNvGrpSpPr/>
              <p:nvPr/>
            </p:nvGrpSpPr>
            <p:grpSpPr>
              <a:xfrm>
                <a:off x="2846160" y="1817640"/>
                <a:ext cx="3308400" cy="639720"/>
                <a:chOff x="2846160" y="1817640"/>
                <a:chExt cx="3308400" cy="63972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2984400" y="1817640"/>
                  <a:ext cx="30319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A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2846160" y="1817640"/>
                  <a:ext cx="330840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375" name=""/>
              <p:cNvGrpSpPr/>
              <p:nvPr/>
            </p:nvGrpSpPr>
            <p:grpSpPr>
              <a:xfrm>
                <a:off x="6155280" y="1817640"/>
                <a:ext cx="1609560" cy="639720"/>
                <a:chOff x="6155280" y="1817640"/>
                <a:chExt cx="1609560" cy="63972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6292440" y="1817640"/>
                  <a:ext cx="13348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A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6155280" y="1817640"/>
                  <a:ext cx="160956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378" name=""/>
              <p:cNvGrpSpPr/>
              <p:nvPr/>
            </p:nvGrpSpPr>
            <p:grpSpPr>
              <a:xfrm>
                <a:off x="7765920" y="1817640"/>
                <a:ext cx="1366560" cy="639720"/>
                <a:chOff x="7765920" y="1817640"/>
                <a:chExt cx="1366560" cy="639720"/>
              </a:xfrm>
            </p:grpSpPr>
            <p:sp>
              <p:nvSpPr>
                <p:cNvPr id="379" name=""/>
                <p:cNvSpPr/>
                <p:nvPr/>
              </p:nvSpPr>
              <p:spPr>
                <a:xfrm>
                  <a:off x="7903800" y="1817640"/>
                  <a:ext cx="10904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7765920" y="1817640"/>
                  <a:ext cx="136656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381" name=""/>
              <p:cNvGrpSpPr/>
              <p:nvPr/>
            </p:nvGrpSpPr>
            <p:grpSpPr>
              <a:xfrm>
                <a:off x="9360" y="2457360"/>
                <a:ext cx="1648800" cy="639720"/>
                <a:chOff x="9360" y="2457360"/>
                <a:chExt cx="1648800" cy="63972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147240" y="2457360"/>
                  <a:ext cx="1372680" cy="639720"/>
                </a:xfrm>
                <a:prstGeom prst="rect">
                  <a:avLst/>
                </a:prstGeom>
                <a:solidFill>
                  <a:srgbClr val="00ff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9360" y="2457360"/>
                  <a:ext cx="164880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384" name=""/>
              <p:cNvGrpSpPr/>
              <p:nvPr/>
            </p:nvGrpSpPr>
            <p:grpSpPr>
              <a:xfrm>
                <a:off x="1658880" y="2457360"/>
                <a:ext cx="1186200" cy="639720"/>
                <a:chOff x="1658880" y="2457360"/>
                <a:chExt cx="1186200" cy="63972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1796040" y="2457360"/>
                  <a:ext cx="911520" cy="639720"/>
                </a:xfrm>
                <a:prstGeom prst="rect">
                  <a:avLst/>
                </a:prstGeom>
                <a:solidFill>
                  <a:srgbClr val="00ff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1658880" y="2457360"/>
                  <a:ext cx="118620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387" name=""/>
              <p:cNvGrpSpPr/>
              <p:nvPr/>
            </p:nvGrpSpPr>
            <p:grpSpPr>
              <a:xfrm>
                <a:off x="2846160" y="2457360"/>
                <a:ext cx="3308400" cy="639720"/>
                <a:chOff x="2846160" y="2457360"/>
                <a:chExt cx="3308400" cy="63972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2984400" y="2457360"/>
                  <a:ext cx="30319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3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Symbol"/>
                      <a:ea typeface="Symbol"/>
                    </a:rPr>
                    <a:t>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T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2846160" y="2457360"/>
                  <a:ext cx="330840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390" name=""/>
              <p:cNvGrpSpPr/>
              <p:nvPr/>
            </p:nvGrpSpPr>
            <p:grpSpPr>
              <a:xfrm>
                <a:off x="6155280" y="2457360"/>
                <a:ext cx="1609560" cy="639720"/>
                <a:chOff x="6155280" y="2457360"/>
                <a:chExt cx="1609560" cy="639720"/>
              </a:xfrm>
            </p:grpSpPr>
            <p:sp>
              <p:nvSpPr>
                <p:cNvPr id="391" name=""/>
                <p:cNvSpPr/>
                <p:nvPr/>
              </p:nvSpPr>
              <p:spPr>
                <a:xfrm>
                  <a:off x="6292440" y="2457360"/>
                  <a:ext cx="13348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A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6155280" y="2457360"/>
                  <a:ext cx="160956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393" name=""/>
              <p:cNvGrpSpPr/>
              <p:nvPr/>
            </p:nvGrpSpPr>
            <p:grpSpPr>
              <a:xfrm>
                <a:off x="7765920" y="2457360"/>
                <a:ext cx="1366560" cy="639720"/>
                <a:chOff x="7765920" y="2457360"/>
                <a:chExt cx="1366560" cy="639720"/>
              </a:xfrm>
            </p:grpSpPr>
            <p:sp>
              <p:nvSpPr>
                <p:cNvPr id="394" name=""/>
                <p:cNvSpPr/>
                <p:nvPr/>
              </p:nvSpPr>
              <p:spPr>
                <a:xfrm>
                  <a:off x="7903800" y="2457360"/>
                  <a:ext cx="10904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7765920" y="2457360"/>
                  <a:ext cx="136656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396" name=""/>
              <p:cNvGrpSpPr/>
              <p:nvPr/>
            </p:nvGrpSpPr>
            <p:grpSpPr>
              <a:xfrm>
                <a:off x="9360" y="3097080"/>
                <a:ext cx="1648800" cy="640080"/>
                <a:chOff x="9360" y="3097080"/>
                <a:chExt cx="1648800" cy="64008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147240" y="3097080"/>
                  <a:ext cx="137268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9360" y="3097080"/>
                  <a:ext cx="1648800" cy="6400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399" name=""/>
              <p:cNvGrpSpPr/>
              <p:nvPr/>
            </p:nvGrpSpPr>
            <p:grpSpPr>
              <a:xfrm>
                <a:off x="1658880" y="3097080"/>
                <a:ext cx="1186200" cy="640080"/>
                <a:chOff x="1658880" y="3097080"/>
                <a:chExt cx="1186200" cy="64008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1796040" y="3097080"/>
                  <a:ext cx="91152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1658880" y="3097080"/>
                  <a:ext cx="1186200" cy="6400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402" name=""/>
              <p:cNvGrpSpPr/>
              <p:nvPr/>
            </p:nvGrpSpPr>
            <p:grpSpPr>
              <a:xfrm>
                <a:off x="2846160" y="3097080"/>
                <a:ext cx="3308400" cy="640080"/>
                <a:chOff x="2846160" y="3097080"/>
                <a:chExt cx="3308400" cy="64008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2984400" y="3097080"/>
                  <a:ext cx="303192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4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Symbol"/>
                      <a:ea typeface="Symbol"/>
                    </a:rPr>
                    <a:t>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E, 4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Symbol"/>
                      <a:ea typeface="Symbol"/>
                    </a:rPr>
                    <a:t>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T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2846160" y="3097080"/>
                  <a:ext cx="3308400" cy="6400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405" name=""/>
              <p:cNvGrpSpPr/>
              <p:nvPr/>
            </p:nvGrpSpPr>
            <p:grpSpPr>
              <a:xfrm>
                <a:off x="6155280" y="3097080"/>
                <a:ext cx="1609560" cy="640080"/>
                <a:chOff x="6155280" y="3097080"/>
                <a:chExt cx="1609560" cy="640080"/>
              </a:xfrm>
            </p:grpSpPr>
            <p:sp>
              <p:nvSpPr>
                <p:cNvPr id="406" name=""/>
                <p:cNvSpPr/>
                <p:nvPr/>
              </p:nvSpPr>
              <p:spPr>
                <a:xfrm>
                  <a:off x="6292440" y="3097080"/>
                  <a:ext cx="1334880" cy="640080"/>
                </a:xfrm>
                <a:prstGeom prst="rect">
                  <a:avLst/>
                </a:prstGeom>
                <a:solidFill>
                  <a:srgbClr val="ff99cc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T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6155280" y="3097080"/>
                  <a:ext cx="1609560" cy="6400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408" name=""/>
              <p:cNvGrpSpPr/>
              <p:nvPr/>
            </p:nvGrpSpPr>
            <p:grpSpPr>
              <a:xfrm>
                <a:off x="7765920" y="3097080"/>
                <a:ext cx="1366560" cy="640080"/>
                <a:chOff x="7765920" y="3097080"/>
                <a:chExt cx="1366560" cy="640080"/>
              </a:xfrm>
            </p:grpSpPr>
            <p:sp>
              <p:nvSpPr>
                <p:cNvPr id="409" name=""/>
                <p:cNvSpPr/>
                <p:nvPr/>
              </p:nvSpPr>
              <p:spPr>
                <a:xfrm>
                  <a:off x="7903800" y="3097080"/>
                  <a:ext cx="1090440" cy="640080"/>
                </a:xfrm>
                <a:prstGeom prst="rect">
                  <a:avLst/>
                </a:prstGeom>
                <a:solidFill>
                  <a:srgbClr val="ff99cc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7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7765920" y="3097080"/>
                  <a:ext cx="1366560" cy="6400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411" name=""/>
              <p:cNvGrpSpPr/>
              <p:nvPr/>
            </p:nvGrpSpPr>
            <p:grpSpPr>
              <a:xfrm>
                <a:off x="9360" y="3737160"/>
                <a:ext cx="1648800" cy="639720"/>
                <a:chOff x="9360" y="3737160"/>
                <a:chExt cx="1648800" cy="63972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147240" y="3737160"/>
                  <a:ext cx="13726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9360" y="3737160"/>
                  <a:ext cx="164880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414" name=""/>
              <p:cNvGrpSpPr/>
              <p:nvPr/>
            </p:nvGrpSpPr>
            <p:grpSpPr>
              <a:xfrm>
                <a:off x="1658880" y="3737160"/>
                <a:ext cx="1186200" cy="639720"/>
                <a:chOff x="1658880" y="3737160"/>
                <a:chExt cx="1186200" cy="639720"/>
              </a:xfrm>
            </p:grpSpPr>
            <p:sp>
              <p:nvSpPr>
                <p:cNvPr id="415" name=""/>
                <p:cNvSpPr/>
                <p:nvPr/>
              </p:nvSpPr>
              <p:spPr>
                <a:xfrm>
                  <a:off x="1796040" y="3737160"/>
                  <a:ext cx="9115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1658880" y="3737160"/>
                  <a:ext cx="118620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417" name=""/>
              <p:cNvGrpSpPr/>
              <p:nvPr/>
            </p:nvGrpSpPr>
            <p:grpSpPr>
              <a:xfrm>
                <a:off x="2846160" y="3737160"/>
                <a:ext cx="3308400" cy="639720"/>
                <a:chOff x="2846160" y="3737160"/>
                <a:chExt cx="3308400" cy="639720"/>
              </a:xfrm>
            </p:grpSpPr>
            <p:sp>
              <p:nvSpPr>
                <p:cNvPr id="418" name=""/>
                <p:cNvSpPr/>
                <p:nvPr/>
              </p:nvSpPr>
              <p:spPr>
                <a:xfrm>
                  <a:off x="2984400" y="3737160"/>
                  <a:ext cx="30319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3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Symbol"/>
                      <a:ea typeface="Symbol"/>
                    </a:rPr>
                    <a:t>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A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2, 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3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Symbol"/>
                      <a:ea typeface="Symbol"/>
                    </a:rPr>
                    <a:t>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T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1,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3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Symbol"/>
                      <a:ea typeface="Symbol"/>
                    </a:rPr>
                    <a:t>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T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2846160" y="3737160"/>
                  <a:ext cx="330840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420" name=""/>
              <p:cNvGrpSpPr/>
              <p:nvPr/>
            </p:nvGrpSpPr>
            <p:grpSpPr>
              <a:xfrm>
                <a:off x="6155280" y="3737160"/>
                <a:ext cx="1609560" cy="639720"/>
                <a:chOff x="6155280" y="3737160"/>
                <a:chExt cx="1609560" cy="639720"/>
              </a:xfrm>
            </p:grpSpPr>
            <p:sp>
              <p:nvSpPr>
                <p:cNvPr id="421" name=""/>
                <p:cNvSpPr/>
                <p:nvPr/>
              </p:nvSpPr>
              <p:spPr>
                <a:xfrm>
                  <a:off x="6292440" y="3737160"/>
                  <a:ext cx="13348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T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6155280" y="3737160"/>
                  <a:ext cx="160956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423" name=""/>
              <p:cNvGrpSpPr/>
              <p:nvPr/>
            </p:nvGrpSpPr>
            <p:grpSpPr>
              <a:xfrm>
                <a:off x="7765920" y="3737160"/>
                <a:ext cx="1366560" cy="639720"/>
                <a:chOff x="7765920" y="3737160"/>
                <a:chExt cx="1366560" cy="639720"/>
              </a:xfrm>
            </p:grpSpPr>
            <p:sp>
              <p:nvSpPr>
                <p:cNvPr id="424" name=""/>
                <p:cNvSpPr/>
                <p:nvPr/>
              </p:nvSpPr>
              <p:spPr>
                <a:xfrm>
                  <a:off x="7903800" y="3737160"/>
                  <a:ext cx="10904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8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7765920" y="3737160"/>
                  <a:ext cx="136656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426" name=""/>
              <p:cNvGrpSpPr/>
              <p:nvPr/>
            </p:nvGrpSpPr>
            <p:grpSpPr>
              <a:xfrm>
                <a:off x="9360" y="4376880"/>
                <a:ext cx="1648800" cy="639720"/>
                <a:chOff x="9360" y="4376880"/>
                <a:chExt cx="1648800" cy="639720"/>
              </a:xfrm>
            </p:grpSpPr>
            <p:sp>
              <p:nvSpPr>
                <p:cNvPr id="427" name=""/>
                <p:cNvSpPr/>
                <p:nvPr/>
              </p:nvSpPr>
              <p:spPr>
                <a:xfrm>
                  <a:off x="147240" y="4376880"/>
                  <a:ext cx="13726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9360" y="4376880"/>
                  <a:ext cx="164880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429" name=""/>
              <p:cNvGrpSpPr/>
              <p:nvPr/>
            </p:nvGrpSpPr>
            <p:grpSpPr>
              <a:xfrm>
                <a:off x="1658880" y="4376880"/>
                <a:ext cx="1186200" cy="639720"/>
                <a:chOff x="1658880" y="4376880"/>
                <a:chExt cx="1186200" cy="639720"/>
              </a:xfrm>
            </p:grpSpPr>
            <p:sp>
              <p:nvSpPr>
                <p:cNvPr id="430" name=""/>
                <p:cNvSpPr/>
                <p:nvPr/>
              </p:nvSpPr>
              <p:spPr>
                <a:xfrm>
                  <a:off x="1796040" y="4376880"/>
                  <a:ext cx="9115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1658880" y="4376880"/>
                  <a:ext cx="118620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432" name=""/>
              <p:cNvGrpSpPr/>
              <p:nvPr/>
            </p:nvGrpSpPr>
            <p:grpSpPr>
              <a:xfrm>
                <a:off x="2846160" y="4376880"/>
                <a:ext cx="3308400" cy="639720"/>
                <a:chOff x="2846160" y="4376880"/>
                <a:chExt cx="3308400" cy="63972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2984400" y="4376880"/>
                  <a:ext cx="30319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A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1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, E, T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1, 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T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2846160" y="4376880"/>
                  <a:ext cx="330840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435" name=""/>
              <p:cNvGrpSpPr/>
              <p:nvPr/>
            </p:nvGrpSpPr>
            <p:grpSpPr>
              <a:xfrm>
                <a:off x="6155280" y="4376880"/>
                <a:ext cx="1609560" cy="639720"/>
                <a:chOff x="6155280" y="4376880"/>
                <a:chExt cx="1609560" cy="639720"/>
              </a:xfrm>
            </p:grpSpPr>
            <p:sp>
              <p:nvSpPr>
                <p:cNvPr id="436" name=""/>
                <p:cNvSpPr/>
                <p:nvPr/>
              </p:nvSpPr>
              <p:spPr>
                <a:xfrm>
                  <a:off x="6292440" y="4376880"/>
                  <a:ext cx="13348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6155280" y="4376880"/>
                  <a:ext cx="160956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438" name=""/>
              <p:cNvGrpSpPr/>
              <p:nvPr/>
            </p:nvGrpSpPr>
            <p:grpSpPr>
              <a:xfrm>
                <a:off x="7765920" y="4376880"/>
                <a:ext cx="1366560" cy="639720"/>
                <a:chOff x="7765920" y="4376880"/>
                <a:chExt cx="1366560" cy="63972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7903800" y="4376880"/>
                  <a:ext cx="10904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7765920" y="4376880"/>
                  <a:ext cx="136656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441" name=""/>
              <p:cNvGrpSpPr/>
              <p:nvPr/>
            </p:nvGrpSpPr>
            <p:grpSpPr>
              <a:xfrm>
                <a:off x="9360" y="5016600"/>
                <a:ext cx="1648800" cy="639720"/>
                <a:chOff x="9360" y="5016600"/>
                <a:chExt cx="1648800" cy="63972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147240" y="5016600"/>
                  <a:ext cx="13726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Symbol"/>
                      <a:ea typeface="Symbol"/>
                    </a:rPr>
                    <a:t>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9360" y="5016600"/>
                  <a:ext cx="164880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444" name=""/>
              <p:cNvGrpSpPr/>
              <p:nvPr/>
            </p:nvGrpSpPr>
            <p:grpSpPr>
              <a:xfrm>
                <a:off x="1658880" y="5016600"/>
                <a:ext cx="1186200" cy="639720"/>
                <a:chOff x="1658880" y="5016600"/>
                <a:chExt cx="1186200" cy="639720"/>
              </a:xfrm>
            </p:grpSpPr>
            <p:sp>
              <p:nvSpPr>
                <p:cNvPr id="445" name=""/>
                <p:cNvSpPr/>
                <p:nvPr/>
              </p:nvSpPr>
              <p:spPr>
                <a:xfrm>
                  <a:off x="1796040" y="5016600"/>
                  <a:ext cx="9115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1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1658880" y="5016600"/>
                  <a:ext cx="118620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447" name=""/>
              <p:cNvGrpSpPr/>
              <p:nvPr/>
            </p:nvGrpSpPr>
            <p:grpSpPr>
              <a:xfrm>
                <a:off x="2846160" y="5016600"/>
                <a:ext cx="3308400" cy="639720"/>
                <a:chOff x="2846160" y="5016600"/>
                <a:chExt cx="3308400" cy="639720"/>
              </a:xfrm>
            </p:grpSpPr>
            <p:sp>
              <p:nvSpPr>
                <p:cNvPr id="448" name=""/>
                <p:cNvSpPr/>
                <p:nvPr/>
              </p:nvSpPr>
              <p:spPr>
                <a:xfrm>
                  <a:off x="2984400" y="5016600"/>
                  <a:ext cx="30319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Courier New"/>
                    </a:rPr>
                    <a:t> 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2846160" y="5016600"/>
                  <a:ext cx="330840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450" name=""/>
              <p:cNvGrpSpPr/>
              <p:nvPr/>
            </p:nvGrpSpPr>
            <p:grpSpPr>
              <a:xfrm>
                <a:off x="6155280" y="5016600"/>
                <a:ext cx="1609560" cy="639720"/>
                <a:chOff x="6155280" y="5016600"/>
                <a:chExt cx="1609560" cy="639720"/>
              </a:xfrm>
            </p:grpSpPr>
            <p:sp>
              <p:nvSpPr>
                <p:cNvPr id="451" name=""/>
                <p:cNvSpPr/>
                <p:nvPr/>
              </p:nvSpPr>
              <p:spPr>
                <a:xfrm>
                  <a:off x="6292440" y="5016600"/>
                  <a:ext cx="13348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Courier New"/>
                    </a:rPr>
                    <a:t> 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6155280" y="5016600"/>
                  <a:ext cx="160956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453" name=""/>
              <p:cNvGrpSpPr/>
              <p:nvPr/>
            </p:nvGrpSpPr>
            <p:grpSpPr>
              <a:xfrm>
                <a:off x="7765920" y="5016600"/>
                <a:ext cx="1366560" cy="639720"/>
                <a:chOff x="7765920" y="5016600"/>
                <a:chExt cx="1366560" cy="639720"/>
              </a:xfrm>
            </p:grpSpPr>
            <p:sp>
              <p:nvSpPr>
                <p:cNvPr id="454" name=""/>
                <p:cNvSpPr/>
                <p:nvPr/>
              </p:nvSpPr>
              <p:spPr>
                <a:xfrm>
                  <a:off x="7903800" y="5016600"/>
                  <a:ext cx="10904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25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7765920" y="5016600"/>
                  <a:ext cx="136656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</p:grpSp>
        <p:sp>
          <p:nvSpPr>
            <p:cNvPr id="456" name=""/>
            <p:cNvSpPr/>
            <p:nvPr/>
          </p:nvSpPr>
          <p:spPr>
            <a:xfrm>
              <a:off x="0" y="990720"/>
              <a:ext cx="9143280" cy="4670280"/>
            </a:xfrm>
            <a:prstGeom prst="rect">
              <a:avLst/>
            </a:prstGeom>
            <a:noFill/>
            <a:ln cap="sq"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sp>
        <p:nvSpPr>
          <p:cNvPr id="457" name=""/>
          <p:cNvSpPr/>
          <p:nvPr/>
        </p:nvSpPr>
        <p:spPr>
          <a:xfrm>
            <a:off x="4419720" y="2362320"/>
            <a:ext cx="380880" cy="533160"/>
          </a:xfrm>
          <a:prstGeom prst="ellipse">
            <a:avLst/>
          </a:prstGeom>
          <a:solidFill>
            <a:srgbClr val="ffffcc">
              <a:alpha val="50000"/>
            </a:srgbClr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8" name=""/>
          <p:cNvSpPr/>
          <p:nvPr/>
        </p:nvSpPr>
        <p:spPr>
          <a:xfrm>
            <a:off x="4419720" y="4343400"/>
            <a:ext cx="380880" cy="533520"/>
          </a:xfrm>
          <a:prstGeom prst="ellipse">
            <a:avLst/>
          </a:prstGeom>
          <a:solidFill>
            <a:srgbClr val="ffffcc">
              <a:alpha val="50000"/>
            </a:srgbClr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9" name=""/>
          <p:cNvSpPr/>
          <p:nvPr/>
        </p:nvSpPr>
        <p:spPr>
          <a:xfrm>
            <a:off x="4419720" y="3657600"/>
            <a:ext cx="380880" cy="533520"/>
          </a:xfrm>
          <a:prstGeom prst="ellipse">
            <a:avLst/>
          </a:prstGeom>
          <a:solidFill>
            <a:srgbClr val="ffffcc">
              <a:alpha val="50000"/>
            </a:srgbClr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0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rystal Field Effect on XAS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1" name=""/>
          <p:cNvSpPr/>
          <p:nvPr/>
        </p:nvSpPr>
        <p:spPr>
          <a:xfrm>
            <a:off x="1623960" y="5791320"/>
            <a:ext cx="5642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2800" spc="-1" strike="noStrike" baseline="30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|dipole|</a:t>
            </a:r>
            <a:r>
              <a:rPr b="0" lang="en-US" sz="2800" spc="-1" strike="noStrike" baseline="30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&gt; goes to &lt;A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|T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|T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"/>
          <p:cNvGrpSpPr/>
          <p:nvPr/>
        </p:nvGrpSpPr>
        <p:grpSpPr>
          <a:xfrm>
            <a:off x="0" y="609480"/>
            <a:ext cx="9143280" cy="5140080"/>
            <a:chOff x="0" y="609480"/>
            <a:chExt cx="9143280" cy="5140080"/>
          </a:xfrm>
        </p:grpSpPr>
        <p:grpSp>
          <p:nvGrpSpPr>
            <p:cNvPr id="463" name=""/>
            <p:cNvGrpSpPr/>
            <p:nvPr/>
          </p:nvGrpSpPr>
          <p:grpSpPr>
            <a:xfrm>
              <a:off x="9720" y="614520"/>
              <a:ext cx="9121320" cy="5128920"/>
              <a:chOff x="9720" y="614520"/>
              <a:chExt cx="9121320" cy="5128920"/>
            </a:xfrm>
          </p:grpSpPr>
          <p:grpSp>
            <p:nvGrpSpPr>
              <p:cNvPr id="464" name=""/>
              <p:cNvGrpSpPr/>
              <p:nvPr/>
            </p:nvGrpSpPr>
            <p:grpSpPr>
              <a:xfrm>
                <a:off x="9720" y="614520"/>
                <a:ext cx="1678680" cy="731880"/>
                <a:chOff x="9720" y="614520"/>
                <a:chExt cx="1678680" cy="731880"/>
              </a:xfrm>
            </p:grpSpPr>
            <p:sp>
              <p:nvSpPr>
                <p:cNvPr id="465" name=""/>
                <p:cNvSpPr/>
                <p:nvPr/>
              </p:nvSpPr>
              <p:spPr>
                <a:xfrm>
                  <a:off x="153720" y="614520"/>
                  <a:ext cx="139068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Symbol"/>
                      <a:ea typeface="Symbol"/>
                    </a:rPr>
                    <a:t>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 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in O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h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9720" y="614520"/>
                  <a:ext cx="1678680" cy="731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467" name=""/>
              <p:cNvGrpSpPr/>
              <p:nvPr/>
            </p:nvGrpSpPr>
            <p:grpSpPr>
              <a:xfrm>
                <a:off x="1689120" y="614520"/>
                <a:ext cx="1423800" cy="731880"/>
                <a:chOff x="1689120" y="614520"/>
                <a:chExt cx="1423800" cy="73188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1832400" y="614520"/>
                  <a:ext cx="11372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Deg.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1689120" y="614520"/>
                  <a:ext cx="1423800" cy="731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470" name=""/>
              <p:cNvGrpSpPr/>
              <p:nvPr/>
            </p:nvGrpSpPr>
            <p:grpSpPr>
              <a:xfrm>
                <a:off x="3113640" y="614520"/>
                <a:ext cx="1424520" cy="731880"/>
                <a:chOff x="3113640" y="614520"/>
                <a:chExt cx="1424520" cy="73188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3257640" y="614520"/>
                  <a:ext cx="11365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 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3113640" y="614520"/>
                  <a:ext cx="1424520" cy="731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473" name=""/>
              <p:cNvGrpSpPr/>
              <p:nvPr/>
            </p:nvGrpSpPr>
            <p:grpSpPr>
              <a:xfrm>
                <a:off x="4539240" y="614520"/>
                <a:ext cx="1741680" cy="731880"/>
                <a:chOff x="4539240" y="614520"/>
                <a:chExt cx="1741680" cy="73188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4682520" y="614520"/>
                  <a:ext cx="14551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Symbol"/>
                      <a:ea typeface="Symbol"/>
                    </a:rPr>
                    <a:t>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 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in D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4h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4539240" y="614520"/>
                  <a:ext cx="1741680" cy="731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476" name=""/>
              <p:cNvGrpSpPr/>
              <p:nvPr/>
            </p:nvGrpSpPr>
            <p:grpSpPr>
              <a:xfrm>
                <a:off x="6281640" y="614520"/>
                <a:ext cx="1424520" cy="731880"/>
                <a:chOff x="6281640" y="614520"/>
                <a:chExt cx="1424520" cy="73188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6425640" y="614520"/>
                  <a:ext cx="11365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 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6281640" y="614520"/>
                  <a:ext cx="1424520" cy="731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479" name=""/>
              <p:cNvGrpSpPr/>
              <p:nvPr/>
            </p:nvGrpSpPr>
            <p:grpSpPr>
              <a:xfrm>
                <a:off x="7707240" y="614520"/>
                <a:ext cx="1423800" cy="731880"/>
                <a:chOff x="7707240" y="614520"/>
                <a:chExt cx="1423800" cy="73188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7850520" y="614520"/>
                  <a:ext cx="11372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Deg.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7707240" y="614520"/>
                  <a:ext cx="1423800" cy="731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482" name=""/>
              <p:cNvGrpSpPr/>
              <p:nvPr/>
            </p:nvGrpSpPr>
            <p:grpSpPr>
              <a:xfrm>
                <a:off x="9720" y="1346760"/>
                <a:ext cx="1678680" cy="697320"/>
                <a:chOff x="9720" y="1346760"/>
                <a:chExt cx="1678680" cy="697320"/>
              </a:xfrm>
            </p:grpSpPr>
            <p:sp>
              <p:nvSpPr>
                <p:cNvPr id="483" name=""/>
                <p:cNvSpPr/>
                <p:nvPr/>
              </p:nvSpPr>
              <p:spPr>
                <a:xfrm>
                  <a:off x="153720" y="1346760"/>
                  <a:ext cx="1390680" cy="69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A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9720" y="1346760"/>
                  <a:ext cx="1678680" cy="697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485" name=""/>
              <p:cNvGrpSpPr/>
              <p:nvPr/>
            </p:nvGrpSpPr>
            <p:grpSpPr>
              <a:xfrm>
                <a:off x="1689120" y="1346760"/>
                <a:ext cx="1423800" cy="697320"/>
                <a:chOff x="1689120" y="1346760"/>
                <a:chExt cx="1423800" cy="697320"/>
              </a:xfrm>
            </p:grpSpPr>
            <p:sp>
              <p:nvSpPr>
                <p:cNvPr id="486" name=""/>
                <p:cNvSpPr/>
                <p:nvPr/>
              </p:nvSpPr>
              <p:spPr>
                <a:xfrm>
                  <a:off x="1832400" y="1346760"/>
                  <a:ext cx="1137240" cy="69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1689120" y="1346760"/>
                  <a:ext cx="1423800" cy="697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488" name=""/>
              <p:cNvGrpSpPr/>
              <p:nvPr/>
            </p:nvGrpSpPr>
            <p:grpSpPr>
              <a:xfrm>
                <a:off x="3113640" y="1346760"/>
                <a:ext cx="1424520" cy="697320"/>
                <a:chOff x="3113640" y="1346760"/>
                <a:chExt cx="1424520" cy="697320"/>
              </a:xfrm>
            </p:grpSpPr>
            <p:sp>
              <p:nvSpPr>
                <p:cNvPr id="489" name=""/>
                <p:cNvSpPr/>
                <p:nvPr/>
              </p:nvSpPr>
              <p:spPr>
                <a:xfrm>
                  <a:off x="3257640" y="1346760"/>
                  <a:ext cx="1136520" cy="69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A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3113640" y="1346760"/>
                  <a:ext cx="1424520" cy="697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491" name=""/>
              <p:cNvGrpSpPr/>
              <p:nvPr/>
            </p:nvGrpSpPr>
            <p:grpSpPr>
              <a:xfrm>
                <a:off x="4539240" y="1346760"/>
                <a:ext cx="1741680" cy="697320"/>
                <a:chOff x="4539240" y="1346760"/>
                <a:chExt cx="1741680" cy="697320"/>
              </a:xfrm>
            </p:grpSpPr>
            <p:sp>
              <p:nvSpPr>
                <p:cNvPr id="492" name=""/>
                <p:cNvSpPr/>
                <p:nvPr/>
              </p:nvSpPr>
              <p:spPr>
                <a:xfrm>
                  <a:off x="4682520" y="1346760"/>
                  <a:ext cx="1455120" cy="69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A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4539240" y="1346760"/>
                  <a:ext cx="1741680" cy="697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494" name=""/>
              <p:cNvGrpSpPr/>
              <p:nvPr/>
            </p:nvGrpSpPr>
            <p:grpSpPr>
              <a:xfrm>
                <a:off x="6281640" y="1346760"/>
                <a:ext cx="1424520" cy="697320"/>
                <a:chOff x="6281640" y="1346760"/>
                <a:chExt cx="1424520" cy="697320"/>
              </a:xfrm>
            </p:grpSpPr>
            <p:sp>
              <p:nvSpPr>
                <p:cNvPr id="495" name=""/>
                <p:cNvSpPr/>
                <p:nvPr/>
              </p:nvSpPr>
              <p:spPr>
                <a:xfrm>
                  <a:off x="6425640" y="1346760"/>
                  <a:ext cx="1136520" cy="69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2+5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6281640" y="1346760"/>
                  <a:ext cx="1424520" cy="697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497" name=""/>
              <p:cNvGrpSpPr/>
              <p:nvPr/>
            </p:nvGrpSpPr>
            <p:grpSpPr>
              <a:xfrm>
                <a:off x="7707240" y="1346760"/>
                <a:ext cx="1423800" cy="697320"/>
                <a:chOff x="7707240" y="1346760"/>
                <a:chExt cx="1423800" cy="697320"/>
              </a:xfrm>
            </p:grpSpPr>
            <p:sp>
              <p:nvSpPr>
                <p:cNvPr id="498" name=""/>
                <p:cNvSpPr/>
                <p:nvPr/>
              </p:nvSpPr>
              <p:spPr>
                <a:xfrm>
                  <a:off x="7850520" y="1346760"/>
                  <a:ext cx="1137240" cy="69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7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7707240" y="1346760"/>
                  <a:ext cx="1423800" cy="697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500" name=""/>
              <p:cNvGrpSpPr/>
              <p:nvPr/>
            </p:nvGrpSpPr>
            <p:grpSpPr>
              <a:xfrm>
                <a:off x="9720" y="2044800"/>
                <a:ext cx="1678680" cy="697680"/>
                <a:chOff x="9720" y="2044800"/>
                <a:chExt cx="1678680" cy="697680"/>
              </a:xfrm>
            </p:grpSpPr>
            <p:sp>
              <p:nvSpPr>
                <p:cNvPr id="501" name=""/>
                <p:cNvSpPr/>
                <p:nvPr/>
              </p:nvSpPr>
              <p:spPr>
                <a:xfrm>
                  <a:off x="153720" y="2044800"/>
                  <a:ext cx="1390680" cy="69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A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9720" y="2044800"/>
                  <a:ext cx="1678680" cy="697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503" name=""/>
              <p:cNvGrpSpPr/>
              <p:nvPr/>
            </p:nvGrpSpPr>
            <p:grpSpPr>
              <a:xfrm>
                <a:off x="1689120" y="2044800"/>
                <a:ext cx="1423800" cy="697680"/>
                <a:chOff x="1689120" y="2044800"/>
                <a:chExt cx="1423800" cy="697680"/>
              </a:xfrm>
            </p:grpSpPr>
            <p:sp>
              <p:nvSpPr>
                <p:cNvPr id="504" name=""/>
                <p:cNvSpPr/>
                <p:nvPr/>
              </p:nvSpPr>
              <p:spPr>
                <a:xfrm>
                  <a:off x="1832400" y="2044800"/>
                  <a:ext cx="1137240" cy="69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1689120" y="2044800"/>
                  <a:ext cx="1423800" cy="697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506" name=""/>
              <p:cNvGrpSpPr/>
              <p:nvPr/>
            </p:nvGrpSpPr>
            <p:grpSpPr>
              <a:xfrm>
                <a:off x="3113640" y="2044800"/>
                <a:ext cx="1424520" cy="697680"/>
                <a:chOff x="3113640" y="2044800"/>
                <a:chExt cx="1424520" cy="69768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3257640" y="2044800"/>
                  <a:ext cx="1136520" cy="69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B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3113640" y="2044800"/>
                  <a:ext cx="1424520" cy="697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509" name=""/>
              <p:cNvGrpSpPr/>
              <p:nvPr/>
            </p:nvGrpSpPr>
            <p:grpSpPr>
              <a:xfrm>
                <a:off x="4539240" y="2044800"/>
                <a:ext cx="1741680" cy="697680"/>
                <a:chOff x="4539240" y="2044800"/>
                <a:chExt cx="1741680" cy="697680"/>
              </a:xfrm>
            </p:grpSpPr>
            <p:sp>
              <p:nvSpPr>
                <p:cNvPr id="510" name=""/>
                <p:cNvSpPr/>
                <p:nvPr/>
              </p:nvSpPr>
              <p:spPr>
                <a:xfrm>
                  <a:off x="4682520" y="2044800"/>
                  <a:ext cx="1455120" cy="69768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A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4539240" y="2044800"/>
                  <a:ext cx="1741680" cy="697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512" name=""/>
              <p:cNvGrpSpPr/>
              <p:nvPr/>
            </p:nvGrpSpPr>
            <p:grpSpPr>
              <a:xfrm>
                <a:off x="6281640" y="2044800"/>
                <a:ext cx="1424520" cy="697680"/>
                <a:chOff x="6281640" y="2044800"/>
                <a:chExt cx="1424520" cy="69768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6425640" y="2044800"/>
                  <a:ext cx="1136520" cy="69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7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6281640" y="2044800"/>
                  <a:ext cx="1424520" cy="697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515" name=""/>
              <p:cNvGrpSpPr/>
              <p:nvPr/>
            </p:nvGrpSpPr>
            <p:grpSpPr>
              <a:xfrm>
                <a:off x="7707240" y="2044800"/>
                <a:ext cx="1423800" cy="697680"/>
                <a:chOff x="7707240" y="2044800"/>
                <a:chExt cx="1423800" cy="697680"/>
              </a:xfrm>
            </p:grpSpPr>
            <p:sp>
              <p:nvSpPr>
                <p:cNvPr id="516" name=""/>
                <p:cNvSpPr/>
                <p:nvPr/>
              </p:nvSpPr>
              <p:spPr>
                <a:xfrm>
                  <a:off x="7850520" y="2044800"/>
                  <a:ext cx="1137240" cy="69768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7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7707240" y="2044800"/>
                  <a:ext cx="1423800" cy="697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518" name=""/>
              <p:cNvGrpSpPr/>
              <p:nvPr/>
            </p:nvGrpSpPr>
            <p:grpSpPr>
              <a:xfrm>
                <a:off x="9720" y="2742840"/>
                <a:ext cx="1678680" cy="697320"/>
                <a:chOff x="9720" y="2742840"/>
                <a:chExt cx="1678680" cy="697320"/>
              </a:xfrm>
            </p:grpSpPr>
            <p:sp>
              <p:nvSpPr>
                <p:cNvPr id="519" name=""/>
                <p:cNvSpPr/>
                <p:nvPr/>
              </p:nvSpPr>
              <p:spPr>
                <a:xfrm>
                  <a:off x="153720" y="2742840"/>
                  <a:ext cx="1390680" cy="697320"/>
                </a:xfrm>
                <a:prstGeom prst="rect">
                  <a:avLst/>
                </a:pr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T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9720" y="2742840"/>
                  <a:ext cx="1678680" cy="697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521" name=""/>
              <p:cNvGrpSpPr/>
              <p:nvPr/>
            </p:nvGrpSpPr>
            <p:grpSpPr>
              <a:xfrm>
                <a:off x="1689120" y="2742840"/>
                <a:ext cx="1423800" cy="697320"/>
                <a:chOff x="1689120" y="2742840"/>
                <a:chExt cx="1423800" cy="697320"/>
              </a:xfrm>
            </p:grpSpPr>
            <p:sp>
              <p:nvSpPr>
                <p:cNvPr id="522" name=""/>
                <p:cNvSpPr/>
                <p:nvPr/>
              </p:nvSpPr>
              <p:spPr>
                <a:xfrm>
                  <a:off x="1832400" y="2742840"/>
                  <a:ext cx="1137240" cy="697320"/>
                </a:xfrm>
                <a:prstGeom prst="rect">
                  <a:avLst/>
                </a:pr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7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1689120" y="2742840"/>
                  <a:ext cx="1423800" cy="697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3113640" y="2742840"/>
                <a:ext cx="1424520" cy="697320"/>
                <a:chOff x="3113640" y="2742840"/>
                <a:chExt cx="1424520" cy="697320"/>
              </a:xfrm>
            </p:grpSpPr>
            <p:sp>
              <p:nvSpPr>
                <p:cNvPr id="525" name=""/>
                <p:cNvSpPr/>
                <p:nvPr/>
              </p:nvSpPr>
              <p:spPr>
                <a:xfrm>
                  <a:off x="3257640" y="2742840"/>
                  <a:ext cx="1136520" cy="69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E+A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3113640" y="2742840"/>
                  <a:ext cx="1424520" cy="697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527" name=""/>
              <p:cNvGrpSpPr/>
              <p:nvPr/>
            </p:nvGrpSpPr>
            <p:grpSpPr>
              <a:xfrm>
                <a:off x="4539240" y="2742840"/>
                <a:ext cx="1741680" cy="697320"/>
                <a:chOff x="4539240" y="2742840"/>
                <a:chExt cx="1741680" cy="697320"/>
              </a:xfrm>
            </p:grpSpPr>
            <p:sp>
              <p:nvSpPr>
                <p:cNvPr id="528" name=""/>
                <p:cNvSpPr/>
                <p:nvPr/>
              </p:nvSpPr>
              <p:spPr>
                <a:xfrm>
                  <a:off x="4682520" y="2742840"/>
                  <a:ext cx="1455120" cy="69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B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4539240" y="2742840"/>
                  <a:ext cx="1741680" cy="697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530" name=""/>
              <p:cNvGrpSpPr/>
              <p:nvPr/>
            </p:nvGrpSpPr>
            <p:grpSpPr>
              <a:xfrm>
                <a:off x="6281640" y="2742840"/>
                <a:ext cx="1424520" cy="697320"/>
                <a:chOff x="6281640" y="2742840"/>
                <a:chExt cx="1424520" cy="697320"/>
              </a:xfrm>
            </p:grpSpPr>
            <p:sp>
              <p:nvSpPr>
                <p:cNvPr id="531" name=""/>
                <p:cNvSpPr/>
                <p:nvPr/>
              </p:nvSpPr>
              <p:spPr>
                <a:xfrm>
                  <a:off x="6425640" y="2742840"/>
                  <a:ext cx="1136520" cy="69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3+5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6281640" y="2742840"/>
                  <a:ext cx="1424520" cy="697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533" name=""/>
              <p:cNvGrpSpPr/>
              <p:nvPr/>
            </p:nvGrpSpPr>
            <p:grpSpPr>
              <a:xfrm>
                <a:off x="7707240" y="2742840"/>
                <a:ext cx="1423800" cy="697320"/>
                <a:chOff x="7707240" y="2742840"/>
                <a:chExt cx="1423800" cy="697320"/>
              </a:xfrm>
            </p:grpSpPr>
            <p:sp>
              <p:nvSpPr>
                <p:cNvPr id="534" name=""/>
                <p:cNvSpPr/>
                <p:nvPr/>
              </p:nvSpPr>
              <p:spPr>
                <a:xfrm>
                  <a:off x="7850520" y="2742840"/>
                  <a:ext cx="1137240" cy="69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8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7707240" y="2742840"/>
                  <a:ext cx="1423800" cy="697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536" name=""/>
              <p:cNvGrpSpPr/>
              <p:nvPr/>
            </p:nvGrpSpPr>
            <p:grpSpPr>
              <a:xfrm>
                <a:off x="9720" y="3440880"/>
                <a:ext cx="1678680" cy="697320"/>
                <a:chOff x="9720" y="3440880"/>
                <a:chExt cx="1678680" cy="697320"/>
              </a:xfrm>
            </p:grpSpPr>
            <p:sp>
              <p:nvSpPr>
                <p:cNvPr id="537" name=""/>
                <p:cNvSpPr/>
                <p:nvPr/>
              </p:nvSpPr>
              <p:spPr>
                <a:xfrm>
                  <a:off x="153720" y="3440880"/>
                  <a:ext cx="1390680" cy="69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T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9720" y="3440880"/>
                  <a:ext cx="1678680" cy="697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539" name=""/>
              <p:cNvGrpSpPr/>
              <p:nvPr/>
            </p:nvGrpSpPr>
            <p:grpSpPr>
              <a:xfrm>
                <a:off x="1689120" y="3440880"/>
                <a:ext cx="1423800" cy="697320"/>
                <a:chOff x="1689120" y="3440880"/>
                <a:chExt cx="1423800" cy="697320"/>
              </a:xfrm>
            </p:grpSpPr>
            <p:sp>
              <p:nvSpPr>
                <p:cNvPr id="540" name=""/>
                <p:cNvSpPr/>
                <p:nvPr/>
              </p:nvSpPr>
              <p:spPr>
                <a:xfrm>
                  <a:off x="1832400" y="3440880"/>
                  <a:ext cx="1137240" cy="69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8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1689120" y="3440880"/>
                  <a:ext cx="1423800" cy="697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542" name=""/>
              <p:cNvGrpSpPr/>
              <p:nvPr/>
            </p:nvGrpSpPr>
            <p:grpSpPr>
              <a:xfrm>
                <a:off x="3113640" y="3440880"/>
                <a:ext cx="1424520" cy="697320"/>
                <a:chOff x="3113640" y="3440880"/>
                <a:chExt cx="1424520" cy="697320"/>
              </a:xfrm>
            </p:grpSpPr>
            <p:sp>
              <p:nvSpPr>
                <p:cNvPr id="543" name=""/>
                <p:cNvSpPr/>
                <p:nvPr/>
              </p:nvSpPr>
              <p:spPr>
                <a:xfrm>
                  <a:off x="3257640" y="3440880"/>
                  <a:ext cx="1136520" cy="69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E+B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3113640" y="3440880"/>
                  <a:ext cx="1424520" cy="697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545" name=""/>
              <p:cNvGrpSpPr/>
              <p:nvPr/>
            </p:nvGrpSpPr>
            <p:grpSpPr>
              <a:xfrm>
                <a:off x="4539240" y="3440880"/>
                <a:ext cx="1741680" cy="697320"/>
                <a:chOff x="4539240" y="3440880"/>
                <a:chExt cx="1741680" cy="69732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4682520" y="3440880"/>
                  <a:ext cx="1455120" cy="69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B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4539240" y="3440880"/>
                  <a:ext cx="1741680" cy="697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548" name=""/>
              <p:cNvGrpSpPr/>
              <p:nvPr/>
            </p:nvGrpSpPr>
            <p:grpSpPr>
              <a:xfrm>
                <a:off x="6281640" y="3440880"/>
                <a:ext cx="1424520" cy="697320"/>
                <a:chOff x="6281640" y="3440880"/>
                <a:chExt cx="1424520" cy="697320"/>
              </a:xfrm>
            </p:grpSpPr>
            <p:sp>
              <p:nvSpPr>
                <p:cNvPr id="549" name=""/>
                <p:cNvSpPr/>
                <p:nvPr/>
              </p:nvSpPr>
              <p:spPr>
                <a:xfrm>
                  <a:off x="6425640" y="3440880"/>
                  <a:ext cx="1136520" cy="69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8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6281640" y="3440880"/>
                  <a:ext cx="1424520" cy="697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551" name=""/>
              <p:cNvGrpSpPr/>
              <p:nvPr/>
            </p:nvGrpSpPr>
            <p:grpSpPr>
              <a:xfrm>
                <a:off x="7707240" y="3440880"/>
                <a:ext cx="1423800" cy="697320"/>
                <a:chOff x="7707240" y="3440880"/>
                <a:chExt cx="1423800" cy="697320"/>
              </a:xfrm>
            </p:grpSpPr>
            <p:sp>
              <p:nvSpPr>
                <p:cNvPr id="552" name=""/>
                <p:cNvSpPr/>
                <p:nvPr/>
              </p:nvSpPr>
              <p:spPr>
                <a:xfrm>
                  <a:off x="7850520" y="3440880"/>
                  <a:ext cx="1137240" cy="69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8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7707240" y="3440880"/>
                  <a:ext cx="1423800" cy="697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554" name=""/>
              <p:cNvGrpSpPr/>
              <p:nvPr/>
            </p:nvGrpSpPr>
            <p:grpSpPr>
              <a:xfrm>
                <a:off x="9720" y="4138920"/>
                <a:ext cx="1678680" cy="872280"/>
                <a:chOff x="9720" y="4138920"/>
                <a:chExt cx="1678680" cy="872280"/>
              </a:xfrm>
            </p:grpSpPr>
            <p:sp>
              <p:nvSpPr>
                <p:cNvPr id="555" name=""/>
                <p:cNvSpPr/>
                <p:nvPr/>
              </p:nvSpPr>
              <p:spPr>
                <a:xfrm>
                  <a:off x="153720" y="4138920"/>
                  <a:ext cx="1390680" cy="87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9720" y="4138920"/>
                  <a:ext cx="1678680" cy="8722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557" name=""/>
              <p:cNvGrpSpPr/>
              <p:nvPr/>
            </p:nvGrpSpPr>
            <p:grpSpPr>
              <a:xfrm>
                <a:off x="1689120" y="4138920"/>
                <a:ext cx="1423800" cy="872280"/>
                <a:chOff x="1689120" y="4138920"/>
                <a:chExt cx="1423800" cy="872280"/>
              </a:xfrm>
            </p:grpSpPr>
            <p:sp>
              <p:nvSpPr>
                <p:cNvPr id="558" name=""/>
                <p:cNvSpPr/>
                <p:nvPr/>
              </p:nvSpPr>
              <p:spPr>
                <a:xfrm>
                  <a:off x="1832400" y="4138920"/>
                  <a:ext cx="1137240" cy="87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1689120" y="4138920"/>
                  <a:ext cx="1423800" cy="8722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560" name=""/>
              <p:cNvGrpSpPr/>
              <p:nvPr/>
            </p:nvGrpSpPr>
            <p:grpSpPr>
              <a:xfrm>
                <a:off x="3113640" y="4138920"/>
                <a:ext cx="1424520" cy="872280"/>
                <a:chOff x="3113640" y="4138920"/>
                <a:chExt cx="1424520" cy="872280"/>
              </a:xfrm>
            </p:grpSpPr>
            <p:sp>
              <p:nvSpPr>
                <p:cNvPr id="561" name=""/>
                <p:cNvSpPr/>
                <p:nvPr/>
              </p:nvSpPr>
              <p:spPr>
                <a:xfrm>
                  <a:off x="3257640" y="4138920"/>
                  <a:ext cx="1136520" cy="87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A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1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+B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3113640" y="4138920"/>
                  <a:ext cx="1424520" cy="8722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563" name=""/>
              <p:cNvGrpSpPr/>
              <p:nvPr/>
            </p:nvGrpSpPr>
            <p:grpSpPr>
              <a:xfrm>
                <a:off x="4539240" y="4138920"/>
                <a:ext cx="1741680" cy="872280"/>
                <a:chOff x="4539240" y="4138920"/>
                <a:chExt cx="1741680" cy="872280"/>
              </a:xfrm>
            </p:grpSpPr>
            <p:sp>
              <p:nvSpPr>
                <p:cNvPr id="564" name=""/>
                <p:cNvSpPr/>
                <p:nvPr/>
              </p:nvSpPr>
              <p:spPr>
                <a:xfrm>
                  <a:off x="4682520" y="4138920"/>
                  <a:ext cx="1455120" cy="872280"/>
                </a:xfrm>
                <a:prstGeom prst="rect">
                  <a:avLst/>
                </a:prstGeom>
                <a:solidFill>
                  <a:srgbClr val="ff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4539240" y="4138920"/>
                  <a:ext cx="1741680" cy="8722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566" name=""/>
              <p:cNvGrpSpPr/>
              <p:nvPr/>
            </p:nvGrpSpPr>
            <p:grpSpPr>
              <a:xfrm>
                <a:off x="6281640" y="4138920"/>
                <a:ext cx="1424520" cy="872280"/>
                <a:chOff x="6281640" y="4138920"/>
                <a:chExt cx="1424520" cy="872280"/>
              </a:xfrm>
            </p:grpSpPr>
            <p:sp>
              <p:nvSpPr>
                <p:cNvPr id="567" name=""/>
                <p:cNvSpPr/>
                <p:nvPr/>
              </p:nvSpPr>
              <p:spPr>
                <a:xfrm>
                  <a:off x="6425640" y="4138920"/>
                  <a:ext cx="1136520" cy="87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7+8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6281640" y="4138920"/>
                  <a:ext cx="1424520" cy="8722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569" name=""/>
              <p:cNvGrpSpPr/>
              <p:nvPr/>
            </p:nvGrpSpPr>
            <p:grpSpPr>
              <a:xfrm>
                <a:off x="7707240" y="4138920"/>
                <a:ext cx="1423800" cy="872280"/>
                <a:chOff x="7707240" y="4138920"/>
                <a:chExt cx="1423800" cy="872280"/>
              </a:xfrm>
            </p:grpSpPr>
            <p:sp>
              <p:nvSpPr>
                <p:cNvPr id="570" name=""/>
                <p:cNvSpPr/>
                <p:nvPr/>
              </p:nvSpPr>
              <p:spPr>
                <a:xfrm>
                  <a:off x="7850520" y="4138920"/>
                  <a:ext cx="1137240" cy="872280"/>
                </a:xfrm>
                <a:prstGeom prst="rect">
                  <a:avLst/>
                </a:prstGeom>
                <a:solidFill>
                  <a:srgbClr val="ff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15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7707240" y="4138920"/>
                  <a:ext cx="1423800" cy="8722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572" name=""/>
              <p:cNvGrpSpPr/>
              <p:nvPr/>
            </p:nvGrpSpPr>
            <p:grpSpPr>
              <a:xfrm>
                <a:off x="9720" y="5011560"/>
                <a:ext cx="1678680" cy="731880"/>
                <a:chOff x="9720" y="5011560"/>
                <a:chExt cx="1678680" cy="731880"/>
              </a:xfrm>
            </p:grpSpPr>
            <p:sp>
              <p:nvSpPr>
                <p:cNvPr id="573" name=""/>
                <p:cNvSpPr/>
                <p:nvPr/>
              </p:nvSpPr>
              <p:spPr>
                <a:xfrm>
                  <a:off x="153720" y="5011560"/>
                  <a:ext cx="139068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Symbol"/>
                      <a:ea typeface="Symbol"/>
                    </a:rPr>
                    <a:t>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9720" y="5011560"/>
                  <a:ext cx="1678680" cy="731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575" name=""/>
              <p:cNvGrpSpPr/>
              <p:nvPr/>
            </p:nvGrpSpPr>
            <p:grpSpPr>
              <a:xfrm>
                <a:off x="1689120" y="5011560"/>
                <a:ext cx="1423800" cy="731880"/>
                <a:chOff x="1689120" y="5011560"/>
                <a:chExt cx="1423800" cy="731880"/>
              </a:xfrm>
            </p:grpSpPr>
            <p:sp>
              <p:nvSpPr>
                <p:cNvPr id="576" name=""/>
                <p:cNvSpPr/>
                <p:nvPr/>
              </p:nvSpPr>
              <p:spPr>
                <a:xfrm>
                  <a:off x="1832400" y="5011560"/>
                  <a:ext cx="11372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25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1689120" y="5011560"/>
                  <a:ext cx="1423800" cy="731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578" name=""/>
              <p:cNvGrpSpPr/>
              <p:nvPr/>
            </p:nvGrpSpPr>
            <p:grpSpPr>
              <a:xfrm>
                <a:off x="3113640" y="5011560"/>
                <a:ext cx="1424520" cy="731880"/>
                <a:chOff x="3113640" y="5011560"/>
                <a:chExt cx="1424520" cy="731880"/>
              </a:xfrm>
            </p:grpSpPr>
            <p:sp>
              <p:nvSpPr>
                <p:cNvPr id="579" name=""/>
                <p:cNvSpPr/>
                <p:nvPr/>
              </p:nvSpPr>
              <p:spPr>
                <a:xfrm>
                  <a:off x="3257640" y="5011560"/>
                  <a:ext cx="11365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 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3113640" y="5011560"/>
                  <a:ext cx="1424520" cy="731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581" name=""/>
              <p:cNvGrpSpPr/>
              <p:nvPr/>
            </p:nvGrpSpPr>
            <p:grpSpPr>
              <a:xfrm>
                <a:off x="4539240" y="5011560"/>
                <a:ext cx="1741680" cy="731880"/>
                <a:chOff x="4539240" y="5011560"/>
                <a:chExt cx="1741680" cy="731880"/>
              </a:xfrm>
            </p:grpSpPr>
            <p:sp>
              <p:nvSpPr>
                <p:cNvPr id="582" name=""/>
                <p:cNvSpPr/>
                <p:nvPr/>
              </p:nvSpPr>
              <p:spPr>
                <a:xfrm>
                  <a:off x="4682520" y="5011560"/>
                  <a:ext cx="14551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 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4539240" y="5011560"/>
                  <a:ext cx="1741680" cy="731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584" name=""/>
              <p:cNvGrpSpPr/>
              <p:nvPr/>
            </p:nvGrpSpPr>
            <p:grpSpPr>
              <a:xfrm>
                <a:off x="6281640" y="5011560"/>
                <a:ext cx="1424520" cy="731880"/>
                <a:chOff x="6281640" y="5011560"/>
                <a:chExt cx="1424520" cy="731880"/>
              </a:xfrm>
            </p:grpSpPr>
            <p:sp>
              <p:nvSpPr>
                <p:cNvPr id="585" name=""/>
                <p:cNvSpPr/>
                <p:nvPr/>
              </p:nvSpPr>
              <p:spPr>
                <a:xfrm>
                  <a:off x="6425640" y="5011560"/>
                  <a:ext cx="11365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 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6281640" y="5011560"/>
                  <a:ext cx="1424520" cy="731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587" name=""/>
              <p:cNvGrpSpPr/>
              <p:nvPr/>
            </p:nvGrpSpPr>
            <p:grpSpPr>
              <a:xfrm>
                <a:off x="7707240" y="5011560"/>
                <a:ext cx="1423800" cy="731880"/>
                <a:chOff x="7707240" y="5011560"/>
                <a:chExt cx="1423800" cy="731880"/>
              </a:xfrm>
            </p:grpSpPr>
            <p:sp>
              <p:nvSpPr>
                <p:cNvPr id="588" name=""/>
                <p:cNvSpPr/>
                <p:nvPr/>
              </p:nvSpPr>
              <p:spPr>
                <a:xfrm>
                  <a:off x="7850520" y="5011560"/>
                  <a:ext cx="11372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45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7707240" y="5011560"/>
                  <a:ext cx="1423800" cy="731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</p:grpSp>
        <p:sp>
          <p:nvSpPr>
            <p:cNvPr id="590" name=""/>
            <p:cNvSpPr/>
            <p:nvPr/>
          </p:nvSpPr>
          <p:spPr>
            <a:xfrm>
              <a:off x="0" y="609480"/>
              <a:ext cx="9143280" cy="5140080"/>
            </a:xfrm>
            <a:prstGeom prst="rect">
              <a:avLst/>
            </a:prstGeom>
            <a:noFill/>
            <a:ln cap="sq"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Lower symmetry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2" name=""/>
          <p:cNvSpPr/>
          <p:nvPr/>
        </p:nvSpPr>
        <p:spPr>
          <a:xfrm>
            <a:off x="3352680" y="2743200"/>
            <a:ext cx="381240" cy="533520"/>
          </a:xfrm>
          <a:prstGeom prst="ellipse">
            <a:avLst/>
          </a:prstGeom>
          <a:solidFill>
            <a:srgbClr val="ffffcc">
              <a:alpha val="50000"/>
            </a:srgbClr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3" name=""/>
          <p:cNvSpPr/>
          <p:nvPr/>
        </p:nvSpPr>
        <p:spPr>
          <a:xfrm>
            <a:off x="3809880" y="2743200"/>
            <a:ext cx="381240" cy="533520"/>
          </a:xfrm>
          <a:prstGeom prst="ellipse">
            <a:avLst/>
          </a:prstGeom>
          <a:solidFill>
            <a:srgbClr val="ffffcc">
              <a:alpha val="50000"/>
            </a:srgbClr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2057400"/>
            <a:ext cx="381240" cy="533520"/>
          </a:xfrm>
          <a:prstGeom prst="ellipse">
            <a:avLst/>
          </a:prstGeom>
          <a:solidFill>
            <a:srgbClr val="ffffcc">
              <a:alpha val="50000"/>
            </a:srgbClr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4114800"/>
            <a:ext cx="381240" cy="533520"/>
          </a:xfrm>
          <a:prstGeom prst="ellipse">
            <a:avLst/>
          </a:prstGeom>
          <a:solidFill>
            <a:srgbClr val="ffffcc">
              <a:alpha val="50000"/>
            </a:srgbClr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6" name=""/>
          <p:cNvSpPr/>
          <p:nvPr/>
        </p:nvSpPr>
        <p:spPr>
          <a:xfrm>
            <a:off x="1316520" y="5791320"/>
            <a:ext cx="5955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&lt;A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|T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|T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&gt; goes to &lt;A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|E+A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| E+A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&gt;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4867200" cy="5705640"/>
          </a:xfrm>
          <a:prstGeom prst="rect">
            <a:avLst/>
          </a:prstGeom>
          <a:ln w="0">
            <a:noFill/>
          </a:ln>
        </p:spPr>
      </p:pic>
      <p:pic>
        <p:nvPicPr>
          <p:cNvPr id="598" name="" descr=""/>
          <p:cNvPicPr/>
          <p:nvPr/>
        </p:nvPicPr>
        <p:blipFill>
          <a:blip r:embed="rId2"/>
          <a:stretch/>
        </p:blipFill>
        <p:spPr>
          <a:xfrm>
            <a:off x="4778280" y="609480"/>
            <a:ext cx="4365720" cy="5257800"/>
          </a:xfrm>
          <a:prstGeom prst="rect">
            <a:avLst/>
          </a:prstGeom>
          <a:ln w="0">
            <a:noFill/>
          </a:ln>
        </p:spPr>
      </p:pic>
      <p:sp>
        <p:nvSpPr>
          <p:cNvPr id="599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Lower symmetry and angular dep.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00" name=""/>
          <p:cNvSpPr/>
          <p:nvPr/>
        </p:nvSpPr>
        <p:spPr>
          <a:xfrm>
            <a:off x="5399280" y="5873760"/>
            <a:ext cx="3722400" cy="947160"/>
          </a:xfrm>
          <a:prstGeom prst="rect">
            <a:avLst/>
          </a:prstGeom>
          <a:solidFill>
            <a:srgbClr val="ff99ff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Arial"/>
              </a:rPr>
              <a:t>Hasselstrom et al.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Arial"/>
              </a:rPr>
              <a:t>PRB 62, 11192 (2000)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Partly filled 3d-shells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rystal Field Effects in CTM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0" y="609480"/>
            <a:ext cx="9144000" cy="5753160"/>
            <a:chOff x="0" y="609480"/>
            <a:chExt cx="9144000" cy="5753160"/>
          </a:xfrm>
        </p:grpSpPr>
        <p:sp>
          <p:nvSpPr>
            <p:cNvPr id="103" name=""/>
            <p:cNvSpPr/>
            <p:nvPr/>
          </p:nvSpPr>
          <p:spPr>
            <a:xfrm>
              <a:off x="0" y="609480"/>
              <a:ext cx="9144000" cy="5753160"/>
            </a:xfrm>
            <a:prstGeom prst="rect">
              <a:avLst/>
            </a:prstGeom>
            <a:solidFill>
              <a:srgbClr val="eaeaea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280" y="1010880"/>
              <a:ext cx="2011320" cy="534960"/>
            </a:xfrm>
            <a:prstGeom prst="flowChartAlternateProcess">
              <a:avLst/>
            </a:prstGeom>
            <a:solidFill>
              <a:srgbClr val="ffff99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Verdana"/>
                </a:rPr>
                <a:t>als3ti4.rcn</a:t>
              </a:r>
              <a:endParaRPr b="0" lang="en-US" sz="20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48280" y="2616480"/>
              <a:ext cx="2194560" cy="534960"/>
            </a:xfrm>
            <a:prstGeom prst="flowChartAlternateProcess">
              <a:avLst/>
            </a:prstGeom>
            <a:solidFill>
              <a:srgbClr val="ffff99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Verdana"/>
                </a:rPr>
                <a:t>als4ti4a.rcg</a:t>
              </a:r>
              <a:endParaRPr b="0" lang="en-US" sz="20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034680" y="1010880"/>
              <a:ext cx="2194560" cy="534960"/>
            </a:xfrm>
            <a:prstGeom prst="flowChartAlternateProcess">
              <a:avLst/>
            </a:prstGeom>
            <a:solidFill>
              <a:srgbClr val="ffff99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Verdana"/>
                </a:rPr>
                <a:t>als3ti4.rcf</a:t>
              </a:r>
              <a:endParaRPr b="0" lang="en-US" sz="20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034680" y="2616480"/>
              <a:ext cx="2377440" cy="534960"/>
            </a:xfrm>
            <a:prstGeom prst="flowChartAlternateProcess">
              <a:avLst/>
            </a:prstGeom>
            <a:solidFill>
              <a:srgbClr val="ffff99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Verdana"/>
                </a:rPr>
                <a:t>als4ti4a.m14</a:t>
              </a:r>
              <a:endParaRPr b="0" lang="en-US" sz="20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108600" y="1010880"/>
              <a:ext cx="2560320" cy="534960"/>
            </a:xfrm>
            <a:custGeom>
              <a:avLst/>
              <a:gdLst>
                <a:gd name="textAreaLeft" fmla="*/ 0 w 2560320"/>
                <a:gd name="textAreaRight" fmla="*/ 2560680 w 2560320"/>
                <a:gd name="textAreaTop" fmla="*/ 0 h 534960"/>
                <a:gd name="textAreaBottom" fmla="*/ 535320 h 534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ffcc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Verdana"/>
                </a:rPr>
                <a:t>rcn2 als3ti4</a:t>
              </a:r>
              <a:endParaRPr b="0" lang="en-US" sz="20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108600" y="2616480"/>
              <a:ext cx="2560320" cy="534960"/>
            </a:xfrm>
            <a:custGeom>
              <a:avLst/>
              <a:gdLst>
                <a:gd name="textAreaLeft" fmla="*/ 0 w 2560320"/>
                <a:gd name="textAreaRight" fmla="*/ 2560680 w 2560320"/>
                <a:gd name="textAreaTop" fmla="*/ 0 h 534960"/>
                <a:gd name="textAreaBottom" fmla="*/ 535320 h 534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ffcc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Verdana"/>
                </a:rPr>
                <a:t>rcg2 als4ti4a</a:t>
              </a:r>
              <a:endParaRPr b="0" lang="en-US" sz="20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71120" y="1635120"/>
              <a:ext cx="0" cy="26748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1584720" y="1902600"/>
              <a:ext cx="5486400" cy="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84720" y="1902600"/>
              <a:ext cx="0" cy="53496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413520" y="1902600"/>
              <a:ext cx="2011320" cy="534960"/>
            </a:xfrm>
            <a:prstGeom prst="flowChartAlternate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Verdana"/>
                </a:rPr>
                <a:t>MODIFY</a:t>
              </a:r>
              <a:endParaRPr b="0" lang="en-US" sz="20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48280" y="5488560"/>
              <a:ext cx="2011320" cy="534960"/>
            </a:xfrm>
            <a:prstGeom prst="flowChartAlternateProcess">
              <a:avLst/>
            </a:prstGeom>
            <a:solidFill>
              <a:srgbClr val="ffff99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Verdana"/>
                </a:rPr>
                <a:t>als3ti4.plo</a:t>
              </a:r>
              <a:endParaRPr b="0" lang="en-US" sz="20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108600" y="5488560"/>
              <a:ext cx="2560320" cy="534960"/>
            </a:xfrm>
            <a:custGeom>
              <a:avLst/>
              <a:gdLst>
                <a:gd name="textAreaLeft" fmla="*/ 0 w 2560320"/>
                <a:gd name="textAreaRight" fmla="*/ 2560680 w 2560320"/>
                <a:gd name="textAreaTop" fmla="*/ 0 h 534960"/>
                <a:gd name="textAreaBottom" fmla="*/ 535320 h 534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ffcc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Verdana"/>
                </a:rPr>
                <a:t>plo2 als3ti4</a:t>
              </a:r>
              <a:endParaRPr b="0" lang="en-US" sz="20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034680" y="5488560"/>
              <a:ext cx="2011680" cy="534960"/>
            </a:xfrm>
            <a:prstGeom prst="flowChartAlternateProcess">
              <a:avLst/>
            </a:prstGeom>
            <a:solidFill>
              <a:srgbClr val="ffff99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Verdana"/>
                </a:rPr>
                <a:t>als3ti4.ps</a:t>
              </a:r>
              <a:endParaRPr b="0" lang="en-US" sz="20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48280" y="4088160"/>
              <a:ext cx="2194560" cy="534960"/>
            </a:xfrm>
            <a:prstGeom prst="flowChartAlternateProcess">
              <a:avLst/>
            </a:prstGeom>
            <a:solidFill>
              <a:srgbClr val="ffff99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Verdana"/>
                </a:rPr>
                <a:t>als4ti4a.rac</a:t>
              </a:r>
              <a:endParaRPr b="0" lang="en-US" sz="20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108600" y="4088160"/>
              <a:ext cx="2560320" cy="534960"/>
            </a:xfrm>
            <a:custGeom>
              <a:avLst/>
              <a:gdLst>
                <a:gd name="textAreaLeft" fmla="*/ 0 w 2560320"/>
                <a:gd name="textAreaRight" fmla="*/ 2560680 w 2560320"/>
                <a:gd name="textAreaTop" fmla="*/ 0 h 534960"/>
                <a:gd name="textAreaBottom" fmla="*/ 535320 h 534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ffcc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Verdana"/>
                </a:rPr>
                <a:t>rac2 als4ti4a</a:t>
              </a:r>
              <a:endParaRPr b="0" lang="en-US" sz="20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034680" y="4088160"/>
              <a:ext cx="2011680" cy="534960"/>
            </a:xfrm>
            <a:prstGeom prst="flowChartAlternateProcess">
              <a:avLst/>
            </a:prstGeom>
            <a:solidFill>
              <a:srgbClr val="ffff99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Verdana"/>
                </a:rPr>
                <a:t>als4ti4a.ora</a:t>
              </a:r>
              <a:endParaRPr b="0" lang="en-US" sz="20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4754520" y="4623120"/>
              <a:ext cx="1279800" cy="80244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4754520" y="3151440"/>
              <a:ext cx="1279800" cy="80244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170028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603" name="tsdd8oh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8458200" cy="5933880"/>
          </a:xfrm>
          <a:prstGeom prst="rect">
            <a:avLst/>
          </a:prstGeom>
          <a:ln w="0">
            <a:noFill/>
          </a:ln>
        </p:spPr>
      </p:pic>
      <p:sp>
        <p:nvSpPr>
          <p:cNvPr id="604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rystal Field Effects: Tanabe-Sugano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0" y="1676520"/>
            <a:ext cx="9144000" cy="146556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A1 -0.801748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0.603819  0.943165  5.315486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T1 -1.472040 -0.734825  0.914685  1.097910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E  -1.492799 -0.730041 -0.515086  0.855732  1.906725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T2 -2.572434 -1.420765 -0.629293  0.391811  0.886141  1.968931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A2 -1.400139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06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 Unicode MS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07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Generating TSD from the program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08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als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5ni2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.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ora file gives ground state energi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09" name=""/>
          <p:cNvSpPr/>
          <p:nvPr/>
        </p:nvSpPr>
        <p:spPr>
          <a:xfrm>
            <a:off x="0" y="5562720"/>
            <a:ext cx="914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Order states by energy: complicated due to LS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Verdana"/>
                <a:ea typeface="Arial"/>
              </a:rPr>
              <a:t>3d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10" name=""/>
          <p:cNvSpPr/>
          <p:nvPr/>
        </p:nvSpPr>
        <p:spPr>
          <a:xfrm>
            <a:off x="0" y="3657600"/>
            <a:ext cx="12953880" cy="173988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A1                     -0.801748                      0.603819  0.943165  5.315486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T1           -1.472040 -0.734825                      0.914685  1.097910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E            -1.492799 -0.730041 -0.515086            0.855732  1.906725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T2 -2.572434 -1.420765 -0.629293            0.391811  0.886141  1.968931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A2           -1.400139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3A2              3T2    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3T1          1E          1T2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/>
          <p:nvPr/>
        </p:nvSpPr>
        <p:spPr>
          <a:xfrm>
            <a:off x="0" y="1676520"/>
            <a:ext cx="11430000" cy="64260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Ni2+ 2p06 3d08     4    0.0000   12.2341    7.5981    0.0832    0.0000HR99999999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Ni2+ 2p06 3d08     4    0.0000   12.2341    7.5981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Arial Unicode MS"/>
              </a:rPr>
              <a:t>0.0002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0.0000HR99999999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12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 Unicode MS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13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Generating TSD from the program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14" name=""/>
          <p:cNvSpPr/>
          <p:nvPr/>
        </p:nvSpPr>
        <p:spPr>
          <a:xfrm>
            <a:off x="0" y="990720"/>
            <a:ext cx="914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Als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5ni2z.rcg file switches off LS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Verdana"/>
                <a:ea typeface="Arial"/>
              </a:rPr>
              <a:t>3d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15" name=""/>
          <p:cNvSpPr/>
          <p:nvPr/>
        </p:nvSpPr>
        <p:spPr>
          <a:xfrm>
            <a:off x="0" y="5562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3T2 = T1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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T2 = A2 + E + T1 + T2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16" name=""/>
          <p:cNvSpPr/>
          <p:nvPr/>
        </p:nvSpPr>
        <p:spPr>
          <a:xfrm>
            <a:off x="0" y="2895480"/>
            <a:ext cx="12953880" cy="201420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A1                     -0.687617            0.599870  0.883427           5.306541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T1           -1.441638 -0.687618                      0.883427  1.093059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E            -1.441639 -0.687617 -0.630865            0.883427  1.901225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T2 -2.558384 -1.441639 -0.687618            0.422527  0.883427           1.964579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A2           -1.441639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         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3A2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3T2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3T1           1E            1A1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   3T1          1T1        1A1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       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1T2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1E          1T2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8686800" cy="6118200"/>
          </a:xfrm>
          <a:prstGeom prst="rect">
            <a:avLst/>
          </a:prstGeom>
          <a:ln w="0">
            <a:noFill/>
          </a:ln>
        </p:spPr>
      </p:pic>
      <p:sp>
        <p:nvSpPr>
          <p:cNvPr id="618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rystal Field Effects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 Unicode MS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0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alculation of transition matrices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1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A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ls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5ni2.ora gives these matric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2" name=""/>
          <p:cNvSpPr/>
          <p:nvPr/>
        </p:nvSpPr>
        <p:spPr>
          <a:xfrm>
            <a:off x="0" y="4114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Reduce Slater integrals to 50%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3" name=""/>
          <p:cNvSpPr/>
          <p:nvPr/>
        </p:nvSpPr>
        <p:spPr>
          <a:xfrm>
            <a:off x="0" y="1676520"/>
            <a:ext cx="12953880" cy="448308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CALCULATIONS for ACTOR:PLANE           TRANSI         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CALCULATING MATRIX for TRIAD  5 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(  0+   1-   1- 0)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(4*7)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MATRIX HAS 21 ZERO, 7 REAL and 0 COMPLEX ELEMENT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CALCULATING MATRIX for TRIAD 17  </a:t>
            </a:r>
            <a:r>
              <a:rPr b="1" lang="en-GB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(  1+   1-   0- 0)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(4*2)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MATRIX HAS 5 ZERO, 3 REAL and 0 COMPLEX ELEMENT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CALCULATING MATRIX for TRIAD 18  </a:t>
            </a:r>
            <a:r>
              <a:rPr b="1" lang="en-GB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(  1+   1-   1- 0)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(4*7)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MATRIX HAS 19 ZERO, 9 REAL and 0 COMPLEX ELEMENT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CALCULATING MATRIX for TRIAD 19  </a:t>
            </a:r>
            <a:r>
              <a:rPr b="1" lang="en-GB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(  1+   1-   2- 0)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(4*5)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MATRIX HAS 14 ZERO, 6 REAL and 0 COMPLEX ELEMENT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CALCULATING MATRIX for TRIAD 20  </a:t>
            </a:r>
            <a:r>
              <a:rPr b="1" lang="en-GB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(  1+   1-  ^1- 0)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(4*8)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MATRIX HAS 21 ZERO, 11 REAL and 0 COMPLEX ELEMENTS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 Unicode MS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5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A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ls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5ni2.ora gives these matric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6" name=""/>
          <p:cNvSpPr/>
          <p:nvPr/>
        </p:nvSpPr>
        <p:spPr>
          <a:xfrm>
            <a:off x="0" y="4114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Reduce Slater integrals to 50%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7" name=""/>
          <p:cNvSpPr/>
          <p:nvPr/>
        </p:nvSpPr>
        <p:spPr>
          <a:xfrm>
            <a:off x="0" y="1676520"/>
            <a:ext cx="12953880" cy="338580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TRANSFORMED MATRIX for TRIAD 42  ( </a:t>
            </a:r>
            <a:r>
              <a:rPr b="1" lang="en-GB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^1+   1-   1-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0) (6*7)  DIM :3:3:3   ACTOR PLANE          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---- MATRIX ----      PRINTTRANS     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BRA/KET :   852.903   854.301   855.088   855.312   856.419   871.640   873.099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-2.57243:  0.084753  0.000524  0.073496  0.054465  0.000005  0.139178  0.005166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-1.42076:  0.010636  0.028672  0.181098  0.000208  0.040343  0.069081  0.074203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-0.62929:  0.013535  0.044253  0.100561  0.027063  0.059448  0.003079  0.088162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0.39181:  0.001357  0.004753  0.002328  0.047212  0.190545  0.031137  0.078262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0.88614:  0.012572  0.029788  0.082503  0.002168  0.033906  0.000366  0.140053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1.96893:  0.000184  0.001708  0.001732  0.012048  0.088378  0.022026  0.069046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8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alculation of transition matrices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 Unicode MS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0" name=""/>
          <p:cNvSpPr/>
          <p:nvPr/>
        </p:nvSpPr>
        <p:spPr>
          <a:xfrm>
            <a:off x="0" y="609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a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ls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5ni2.plo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1" name=""/>
          <p:cNvSpPr/>
          <p:nvPr/>
        </p:nvSpPr>
        <p:spPr>
          <a:xfrm>
            <a:off x="0" y="4114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Reduce Slater integrals to 50%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2" name=""/>
          <p:cNvSpPr/>
          <p:nvPr/>
        </p:nvSpPr>
        <p:spPr>
          <a:xfrm>
            <a:off x="0" y="1143000"/>
            <a:ext cx="7924680" cy="475740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postscript als5ni2t2.ps</a:t>
            </a: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energy_range 850 880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frame_title Ni 2pXA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lorentzian 0.2 999. range 0 860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lorentzian 0.4 999.   range 860 999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gaussian 0.25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frame_title GROUND STATE ALL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old_racah als5ni2.ora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frame_title T2 to T1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spectrum fstate 1-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frame_title T2 to E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spectrum fstate 2-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frame_title T2 to T2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spectrum fstate ^1-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frame_title T2 to A2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spectrum fstate ^0-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end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3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Plotting the result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" descr=""/>
          <p:cNvPicPr/>
          <p:nvPr/>
        </p:nvPicPr>
        <p:blipFill>
          <a:blip r:embed="rId1"/>
          <a:stretch/>
        </p:blipFill>
        <p:spPr>
          <a:xfrm>
            <a:off x="0" y="439560"/>
            <a:ext cx="9144000" cy="5978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2000160" y="17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6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Plotting the result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7" name=""/>
          <p:cNvSpPr/>
          <p:nvPr/>
        </p:nvSpPr>
        <p:spPr>
          <a:xfrm>
            <a:off x="3672360" y="365760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2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8" name=""/>
          <p:cNvSpPr/>
          <p:nvPr/>
        </p:nvSpPr>
        <p:spPr>
          <a:xfrm>
            <a:off x="8150760" y="762120"/>
            <a:ext cx="6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2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9" name=""/>
          <p:cNvSpPr/>
          <p:nvPr/>
        </p:nvSpPr>
        <p:spPr>
          <a:xfrm>
            <a:off x="3695040" y="762120"/>
            <a:ext cx="5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1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0" name=""/>
          <p:cNvSpPr/>
          <p:nvPr/>
        </p:nvSpPr>
        <p:spPr>
          <a:xfrm>
            <a:off x="8369640" y="37339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1" name=""/>
          <p:cNvSpPr/>
          <p:nvPr/>
        </p:nvSpPr>
        <p:spPr>
          <a:xfrm>
            <a:off x="1943280" y="17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2" name=""/>
          <p:cNvSpPr/>
          <p:nvPr/>
        </p:nvSpPr>
        <p:spPr>
          <a:xfrm>
            <a:off x="0" y="63388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Lowest energy of 4 different symmetrie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3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839080" cy="6008760"/>
          </a:xfrm>
          <a:prstGeom prst="rect">
            <a:avLst/>
          </a:prstGeom>
          <a:ln w="0">
            <a:noFill/>
          </a:ln>
        </p:spPr>
      </p:pic>
      <p:sp>
        <p:nvSpPr>
          <p:cNvPr id="644" name=""/>
          <p:cNvSpPr/>
          <p:nvPr/>
        </p:nvSpPr>
        <p:spPr>
          <a:xfrm>
            <a:off x="2000160" y="17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5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Plotting the result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6" name=""/>
          <p:cNvSpPr/>
          <p:nvPr/>
        </p:nvSpPr>
        <p:spPr>
          <a:xfrm>
            <a:off x="3062160" y="3657600"/>
            <a:ext cx="130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o LS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7" name=""/>
          <p:cNvSpPr/>
          <p:nvPr/>
        </p:nvSpPr>
        <p:spPr>
          <a:xfrm>
            <a:off x="7697520" y="762120"/>
            <a:ext cx="108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om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8" name=""/>
          <p:cNvSpPr/>
          <p:nvPr/>
        </p:nvSpPr>
        <p:spPr>
          <a:xfrm>
            <a:off x="3656880" y="762120"/>
            <a:ext cx="6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9" name=""/>
          <p:cNvSpPr/>
          <p:nvPr/>
        </p:nvSpPr>
        <p:spPr>
          <a:xfrm>
            <a:off x="6612840" y="3733920"/>
            <a:ext cx="217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om no L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50" name=""/>
          <p:cNvSpPr/>
          <p:nvPr/>
        </p:nvSpPr>
        <p:spPr>
          <a:xfrm>
            <a:off x="1943280" y="17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51" name=""/>
          <p:cNvSpPr/>
          <p:nvPr/>
        </p:nvSpPr>
        <p:spPr>
          <a:xfrm>
            <a:off x="1776240" y="15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52" name=""/>
          <p:cNvSpPr/>
          <p:nvPr/>
        </p:nvSpPr>
        <p:spPr>
          <a:xfrm>
            <a:off x="0" y="63388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ffect of spin-orbit coupling and crystal field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3" name="" descr=""/>
          <p:cNvPicPr/>
          <p:nvPr/>
        </p:nvPicPr>
        <p:blipFill>
          <a:blip r:embed="rId1"/>
          <a:stretch/>
        </p:blipFill>
        <p:spPr>
          <a:xfrm>
            <a:off x="0" y="417600"/>
            <a:ext cx="9144000" cy="5992560"/>
          </a:xfrm>
          <a:prstGeom prst="rect">
            <a:avLst/>
          </a:prstGeom>
          <a:ln w="0">
            <a:noFill/>
          </a:ln>
        </p:spPr>
      </p:pic>
      <p:sp>
        <p:nvSpPr>
          <p:cNvPr id="654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3d spin-orbit coupling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als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4ti4a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.rcg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1676520"/>
            <a:ext cx="11430000" cy="301428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10    1    0   00    4    4    1    1 SHELL00000000 SPIN00000000 INTER8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10    1    0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Arial Unicode MS"/>
              </a:rPr>
              <a:t>14    2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4    1    1 SHELL0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Arial Unicode MS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000000 SPIN0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Arial Unicode MS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000000 INTER8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0                         80998080            8065.47800     0000000       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1     2 1 12 1 10         00      9 00000000 0 8065.4790 .00       1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P 6  S 0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P 5  D 1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Ti4+ 2p06 3d00     1    0.0000    0.0000    0.0000    0.0000    0.0000HR99999999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Ti4+ 2p05 3d01     6  464.8110    3.7762    0.0322    6.3023    4.6284HR99999999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2.6334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Ti4+ 2p06 3d00      Ti4+ 2p05 3d01        -0.26267( 2P//R1// 3D) 1.000HR  38-100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-99999999.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-1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 Unicode MS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5486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Change the first line in als4ti4a.rcf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rystal Field Effects in CTM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/>
          <p:nvPr/>
        </p:nvSpPr>
        <p:spPr>
          <a:xfrm>
            <a:off x="170028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656" name="tsdco2" descr=""/>
          <p:cNvPicPr/>
          <p:nvPr/>
        </p:nvPicPr>
        <p:blipFill>
          <a:blip r:embed="rId1"/>
          <a:stretch/>
        </p:blipFill>
        <p:spPr>
          <a:xfrm>
            <a:off x="0" y="52560"/>
            <a:ext cx="9144000" cy="6414840"/>
          </a:xfrm>
          <a:prstGeom prst="rect">
            <a:avLst/>
          </a:prstGeom>
          <a:ln w="0">
            <a:noFill/>
          </a:ln>
        </p:spPr>
      </p:pic>
      <p:sp>
        <p:nvSpPr>
          <p:cNvPr id="657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3d spin-orbit coupling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3780000" cy="5981760"/>
          </a:xfrm>
          <a:prstGeom prst="rect">
            <a:avLst/>
          </a:prstGeom>
          <a:ln w="0">
            <a:noFill/>
          </a:ln>
        </p:spPr>
      </p:pic>
      <p:sp>
        <p:nvSpPr>
          <p:cNvPr id="659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Effect of 10Dq on XAS:3d</a:t>
            </a:r>
            <a:r>
              <a:rPr b="1" lang="en-US" sz="3600" spc="-1" strike="noStrike" baseline="30000">
                <a:solidFill>
                  <a:srgbClr val="0000ff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660" name="" descr=""/>
          <p:cNvPicPr/>
          <p:nvPr/>
        </p:nvPicPr>
        <p:blipFill>
          <a:blip r:embed="rId2"/>
          <a:stretch/>
        </p:blipFill>
        <p:spPr>
          <a:xfrm>
            <a:off x="3429000" y="1752480"/>
            <a:ext cx="5715000" cy="394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4876920" cy="3378240"/>
          </a:xfrm>
          <a:prstGeom prst="rect">
            <a:avLst/>
          </a:prstGeom>
          <a:ln w="0">
            <a:noFill/>
          </a:ln>
        </p:spPr>
      </p:pic>
      <p:sp>
        <p:nvSpPr>
          <p:cNvPr id="662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High-spin or Low-spin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63" name=""/>
          <p:cNvSpPr/>
          <p:nvPr/>
        </p:nvSpPr>
        <p:spPr>
          <a:xfrm>
            <a:off x="4911840" y="1752480"/>
            <a:ext cx="183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10Dq &gt; 3J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(d</a:t>
            </a:r>
            <a:r>
              <a:rPr b="0" lang="en-US" sz="2800" spc="-1" strike="noStrike" baseline="30000">
                <a:solidFill>
                  <a:srgbClr val="0000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and d</a:t>
            </a:r>
            <a:r>
              <a:rPr b="0" lang="en-US" sz="2800" spc="-1" strike="noStrike" baseline="30000">
                <a:solidFill>
                  <a:srgbClr val="0000ff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64" name=""/>
          <p:cNvSpPr/>
          <p:nvPr/>
        </p:nvSpPr>
        <p:spPr>
          <a:xfrm>
            <a:off x="4975200" y="3733920"/>
            <a:ext cx="183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10Dq &gt; 2J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(d</a:t>
            </a:r>
            <a:r>
              <a:rPr b="0" lang="en-US" sz="2800" spc="-1" strike="noStrike" baseline="30000">
                <a:solidFill>
                  <a:srgbClr val="0000ff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and d</a:t>
            </a:r>
            <a:r>
              <a:rPr b="0" lang="en-US" sz="2800" spc="-1" strike="noStrike" baseline="30000">
                <a:solidFill>
                  <a:srgbClr val="0000ff"/>
                </a:solidFill>
                <a:latin typeface="Arial"/>
              </a:rPr>
              <a:t>7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5" name=""/>
          <p:cNvGrpSpPr/>
          <p:nvPr/>
        </p:nvGrpSpPr>
        <p:grpSpPr>
          <a:xfrm>
            <a:off x="0" y="533520"/>
            <a:ext cx="9143280" cy="5867280"/>
            <a:chOff x="0" y="533520"/>
            <a:chExt cx="9143280" cy="5867280"/>
          </a:xfrm>
        </p:grpSpPr>
        <p:grpSp>
          <p:nvGrpSpPr>
            <p:cNvPr id="666" name=""/>
            <p:cNvGrpSpPr/>
            <p:nvPr/>
          </p:nvGrpSpPr>
          <p:grpSpPr>
            <a:xfrm>
              <a:off x="11160" y="537120"/>
              <a:ext cx="9118800" cy="5859360"/>
              <a:chOff x="11160" y="537120"/>
              <a:chExt cx="9118800" cy="5859360"/>
            </a:xfrm>
          </p:grpSpPr>
          <p:grpSp>
            <p:nvGrpSpPr>
              <p:cNvPr id="667" name=""/>
              <p:cNvGrpSpPr/>
              <p:nvPr/>
            </p:nvGrpSpPr>
            <p:grpSpPr>
              <a:xfrm>
                <a:off x="11160" y="537120"/>
                <a:ext cx="1710000" cy="795240"/>
                <a:chOff x="11160" y="537120"/>
                <a:chExt cx="1710000" cy="795240"/>
              </a:xfrm>
            </p:grpSpPr>
            <p:sp>
              <p:nvSpPr>
                <p:cNvPr id="668" name=""/>
                <p:cNvSpPr/>
                <p:nvPr/>
              </p:nvSpPr>
              <p:spPr>
                <a:xfrm>
                  <a:off x="176760" y="537120"/>
                  <a:ext cx="1378080" cy="79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Conf.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11160" y="537120"/>
                  <a:ext cx="1710000" cy="795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670" name=""/>
              <p:cNvGrpSpPr/>
              <p:nvPr/>
            </p:nvGrpSpPr>
            <p:grpSpPr>
              <a:xfrm>
                <a:off x="1721880" y="537120"/>
                <a:ext cx="1860120" cy="795240"/>
                <a:chOff x="1721880" y="537120"/>
                <a:chExt cx="1860120" cy="795240"/>
              </a:xfrm>
            </p:grpSpPr>
            <p:sp>
              <p:nvSpPr>
                <p:cNvPr id="671" name=""/>
                <p:cNvSpPr/>
                <p:nvPr/>
              </p:nvSpPr>
              <p:spPr>
                <a:xfrm>
                  <a:off x="1887480" y="537120"/>
                  <a:ext cx="1528200" cy="79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Ground State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SO</a:t>
                  </a:r>
                  <a:r>
                    <a:rPr b="0" lang="en-US" sz="2000" spc="-1" strike="noStrike" baseline="-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1721880" y="537120"/>
                  <a:ext cx="1860120" cy="795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673" name=""/>
              <p:cNvGrpSpPr/>
              <p:nvPr/>
            </p:nvGrpSpPr>
            <p:grpSpPr>
              <a:xfrm>
                <a:off x="3582720" y="537120"/>
                <a:ext cx="2738160" cy="795240"/>
                <a:chOff x="3582720" y="537120"/>
                <a:chExt cx="2738160" cy="795240"/>
              </a:xfrm>
            </p:grpSpPr>
            <p:sp>
              <p:nvSpPr>
                <p:cNvPr id="674" name=""/>
                <p:cNvSpPr/>
                <p:nvPr/>
              </p:nvSpPr>
              <p:spPr>
                <a:xfrm>
                  <a:off x="3747600" y="537120"/>
                  <a:ext cx="2408040" cy="79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HS Ground State in O</a:t>
                  </a:r>
                  <a:r>
                    <a:rPr b="0" lang="en-US" sz="2400" spc="-1" strike="noStrike" baseline="-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h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3582720" y="537120"/>
                  <a:ext cx="2738160" cy="795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676" name=""/>
              <p:cNvGrpSpPr/>
              <p:nvPr/>
            </p:nvGrpSpPr>
            <p:grpSpPr>
              <a:xfrm>
                <a:off x="6321960" y="537120"/>
                <a:ext cx="2808000" cy="795240"/>
                <a:chOff x="6321960" y="537120"/>
                <a:chExt cx="2808000" cy="795240"/>
              </a:xfrm>
            </p:grpSpPr>
            <p:sp>
              <p:nvSpPr>
                <p:cNvPr id="677" name=""/>
                <p:cNvSpPr/>
                <p:nvPr/>
              </p:nvSpPr>
              <p:spPr>
                <a:xfrm>
                  <a:off x="6487560" y="537120"/>
                  <a:ext cx="2476080" cy="79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LS Ground State in O</a:t>
                  </a:r>
                  <a:r>
                    <a:rPr b="0" lang="en-US" sz="2400" spc="-1" strike="noStrike" baseline="-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h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6321960" y="537120"/>
                  <a:ext cx="2808000" cy="795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679" name=""/>
              <p:cNvGrpSpPr/>
              <p:nvPr/>
            </p:nvGrpSpPr>
            <p:grpSpPr>
              <a:xfrm>
                <a:off x="11160" y="1332360"/>
                <a:ext cx="1710000" cy="506160"/>
                <a:chOff x="11160" y="1332360"/>
                <a:chExt cx="1710000" cy="506160"/>
              </a:xfrm>
            </p:grpSpPr>
            <p:sp>
              <p:nvSpPr>
                <p:cNvPr id="680" name=""/>
                <p:cNvSpPr/>
                <p:nvPr/>
              </p:nvSpPr>
              <p:spPr>
                <a:xfrm>
                  <a:off x="176760" y="1332360"/>
                  <a:ext cx="1378080" cy="50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3d</a:t>
                  </a:r>
                  <a:r>
                    <a:rPr b="0" lang="en-US" sz="2400" spc="-1" strike="noStrike" baseline="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11160" y="1332360"/>
                  <a:ext cx="1710000" cy="506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682" name=""/>
              <p:cNvGrpSpPr/>
              <p:nvPr/>
            </p:nvGrpSpPr>
            <p:grpSpPr>
              <a:xfrm>
                <a:off x="1721880" y="1332360"/>
                <a:ext cx="1860120" cy="506160"/>
                <a:chOff x="1721880" y="1332360"/>
                <a:chExt cx="1860120" cy="506160"/>
              </a:xfrm>
            </p:grpSpPr>
            <p:sp>
              <p:nvSpPr>
                <p:cNvPr id="683" name=""/>
                <p:cNvSpPr/>
                <p:nvPr/>
              </p:nvSpPr>
              <p:spPr>
                <a:xfrm>
                  <a:off x="1887480" y="1332360"/>
                  <a:ext cx="1528200" cy="50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baseline="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1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S</a:t>
                  </a:r>
                  <a:r>
                    <a:rPr b="0" lang="en-US" sz="2400" spc="-1" strike="noStrike" baseline="-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1721880" y="1332360"/>
                  <a:ext cx="1860120" cy="506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685" name=""/>
              <p:cNvGrpSpPr/>
              <p:nvPr/>
            </p:nvGrpSpPr>
            <p:grpSpPr>
              <a:xfrm>
                <a:off x="3582720" y="1332360"/>
                <a:ext cx="2738160" cy="506160"/>
                <a:chOff x="3582720" y="1332360"/>
                <a:chExt cx="2738160" cy="506160"/>
              </a:xfrm>
            </p:grpSpPr>
            <p:sp>
              <p:nvSpPr>
                <p:cNvPr id="686" name=""/>
                <p:cNvSpPr/>
                <p:nvPr/>
              </p:nvSpPr>
              <p:spPr>
                <a:xfrm>
                  <a:off x="3747600" y="1332360"/>
                  <a:ext cx="2408040" cy="50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baseline="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1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A</a:t>
                  </a:r>
                  <a:r>
                    <a:rPr b="0" lang="en-US" sz="2400" spc="-1" strike="noStrike" baseline="-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3582720" y="1332360"/>
                  <a:ext cx="2738160" cy="506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688" name=""/>
              <p:cNvGrpSpPr/>
              <p:nvPr/>
            </p:nvGrpSpPr>
            <p:grpSpPr>
              <a:xfrm>
                <a:off x="6321960" y="1332360"/>
                <a:ext cx="2808000" cy="506160"/>
                <a:chOff x="6321960" y="1332360"/>
                <a:chExt cx="2808000" cy="506160"/>
              </a:xfrm>
            </p:grpSpPr>
            <p:sp>
              <p:nvSpPr>
                <p:cNvPr id="689" name=""/>
                <p:cNvSpPr/>
                <p:nvPr/>
              </p:nvSpPr>
              <p:spPr>
                <a:xfrm>
                  <a:off x="6487560" y="1332360"/>
                  <a:ext cx="2476080" cy="50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6321960" y="1332360"/>
                  <a:ext cx="2808000" cy="506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691" name=""/>
              <p:cNvGrpSpPr/>
              <p:nvPr/>
            </p:nvGrpSpPr>
            <p:grpSpPr>
              <a:xfrm>
                <a:off x="11160" y="1838520"/>
                <a:ext cx="1710000" cy="506520"/>
                <a:chOff x="11160" y="1838520"/>
                <a:chExt cx="1710000" cy="506520"/>
              </a:xfrm>
            </p:grpSpPr>
            <p:sp>
              <p:nvSpPr>
                <p:cNvPr id="692" name=""/>
                <p:cNvSpPr/>
                <p:nvPr/>
              </p:nvSpPr>
              <p:spPr>
                <a:xfrm>
                  <a:off x="176760" y="1838520"/>
                  <a:ext cx="1378080" cy="5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3d</a:t>
                  </a:r>
                  <a:r>
                    <a:rPr b="0" lang="en-US" sz="2400" spc="-1" strike="noStrike" baseline="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11160" y="1838520"/>
                  <a:ext cx="1710000" cy="5065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694" name=""/>
              <p:cNvGrpSpPr/>
              <p:nvPr/>
            </p:nvGrpSpPr>
            <p:grpSpPr>
              <a:xfrm>
                <a:off x="1721880" y="1838520"/>
                <a:ext cx="1860120" cy="506520"/>
                <a:chOff x="1721880" y="1838520"/>
                <a:chExt cx="1860120" cy="506520"/>
              </a:xfrm>
            </p:grpSpPr>
            <p:sp>
              <p:nvSpPr>
                <p:cNvPr id="695" name=""/>
                <p:cNvSpPr/>
                <p:nvPr/>
              </p:nvSpPr>
              <p:spPr>
                <a:xfrm>
                  <a:off x="1887480" y="1838520"/>
                  <a:ext cx="1528200" cy="5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baseline="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2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D</a:t>
                  </a:r>
                  <a:r>
                    <a:rPr b="0" lang="en-US" sz="2400" spc="-1" strike="noStrike" baseline="-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3/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1721880" y="1838520"/>
                  <a:ext cx="1860120" cy="5065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697" name=""/>
              <p:cNvGrpSpPr/>
              <p:nvPr/>
            </p:nvGrpSpPr>
            <p:grpSpPr>
              <a:xfrm>
                <a:off x="3582720" y="1838520"/>
                <a:ext cx="2738160" cy="506520"/>
                <a:chOff x="3582720" y="1838520"/>
                <a:chExt cx="2738160" cy="506520"/>
              </a:xfrm>
            </p:grpSpPr>
            <p:sp>
              <p:nvSpPr>
                <p:cNvPr id="698" name=""/>
                <p:cNvSpPr/>
                <p:nvPr/>
              </p:nvSpPr>
              <p:spPr>
                <a:xfrm>
                  <a:off x="3747600" y="1838520"/>
                  <a:ext cx="2408040" cy="5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baseline="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2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T</a:t>
                  </a:r>
                  <a:r>
                    <a:rPr b="0" lang="en-US" sz="2400" spc="-1" strike="noStrike" baseline="-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3582720" y="1838520"/>
                  <a:ext cx="2738160" cy="5065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700" name=""/>
              <p:cNvGrpSpPr/>
              <p:nvPr/>
            </p:nvGrpSpPr>
            <p:grpSpPr>
              <a:xfrm>
                <a:off x="6321960" y="1838520"/>
                <a:ext cx="2808000" cy="506520"/>
                <a:chOff x="6321960" y="1838520"/>
                <a:chExt cx="2808000" cy="506520"/>
              </a:xfrm>
            </p:grpSpPr>
            <p:sp>
              <p:nvSpPr>
                <p:cNvPr id="701" name=""/>
                <p:cNvSpPr/>
                <p:nvPr/>
              </p:nvSpPr>
              <p:spPr>
                <a:xfrm>
                  <a:off x="6487560" y="1838520"/>
                  <a:ext cx="2476080" cy="5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6321960" y="1838520"/>
                  <a:ext cx="2808000" cy="5065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703" name=""/>
              <p:cNvGrpSpPr/>
              <p:nvPr/>
            </p:nvGrpSpPr>
            <p:grpSpPr>
              <a:xfrm>
                <a:off x="11160" y="2345400"/>
                <a:ext cx="1710000" cy="506160"/>
                <a:chOff x="11160" y="2345400"/>
                <a:chExt cx="1710000" cy="506160"/>
              </a:xfrm>
            </p:grpSpPr>
            <p:sp>
              <p:nvSpPr>
                <p:cNvPr id="704" name=""/>
                <p:cNvSpPr/>
                <p:nvPr/>
              </p:nvSpPr>
              <p:spPr>
                <a:xfrm>
                  <a:off x="176760" y="2345400"/>
                  <a:ext cx="1378080" cy="50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3d</a:t>
                  </a:r>
                  <a:r>
                    <a:rPr b="0" lang="en-US" sz="2400" spc="-1" strike="noStrike" baseline="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11160" y="2345400"/>
                  <a:ext cx="1710000" cy="506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706" name=""/>
              <p:cNvGrpSpPr/>
              <p:nvPr/>
            </p:nvGrpSpPr>
            <p:grpSpPr>
              <a:xfrm>
                <a:off x="1721880" y="2345400"/>
                <a:ext cx="1860120" cy="506160"/>
                <a:chOff x="1721880" y="2345400"/>
                <a:chExt cx="1860120" cy="506160"/>
              </a:xfrm>
            </p:grpSpPr>
            <p:sp>
              <p:nvSpPr>
                <p:cNvPr id="707" name=""/>
                <p:cNvSpPr/>
                <p:nvPr/>
              </p:nvSpPr>
              <p:spPr>
                <a:xfrm>
                  <a:off x="1887480" y="2345400"/>
                  <a:ext cx="1528200" cy="50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baseline="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3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F</a:t>
                  </a:r>
                  <a:r>
                    <a:rPr b="0" lang="en-US" sz="2400" spc="-1" strike="noStrike" baseline="-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1721880" y="2345400"/>
                  <a:ext cx="1860120" cy="506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709" name=""/>
              <p:cNvGrpSpPr/>
              <p:nvPr/>
            </p:nvGrpSpPr>
            <p:grpSpPr>
              <a:xfrm>
                <a:off x="3582720" y="2345400"/>
                <a:ext cx="2738160" cy="506160"/>
                <a:chOff x="3582720" y="2345400"/>
                <a:chExt cx="2738160" cy="506160"/>
              </a:xfrm>
            </p:grpSpPr>
            <p:sp>
              <p:nvSpPr>
                <p:cNvPr id="710" name=""/>
                <p:cNvSpPr/>
                <p:nvPr/>
              </p:nvSpPr>
              <p:spPr>
                <a:xfrm>
                  <a:off x="3747600" y="2345400"/>
                  <a:ext cx="2408040" cy="50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baseline="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3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T</a:t>
                  </a:r>
                  <a:r>
                    <a:rPr b="0" lang="en-US" sz="2400" spc="-1" strike="noStrike" baseline="-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3582720" y="2345400"/>
                  <a:ext cx="2738160" cy="506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712" name=""/>
              <p:cNvGrpSpPr/>
              <p:nvPr/>
            </p:nvGrpSpPr>
            <p:grpSpPr>
              <a:xfrm>
                <a:off x="6321960" y="2345400"/>
                <a:ext cx="2808000" cy="506160"/>
                <a:chOff x="6321960" y="2345400"/>
                <a:chExt cx="2808000" cy="506160"/>
              </a:xfrm>
            </p:grpSpPr>
            <p:sp>
              <p:nvSpPr>
                <p:cNvPr id="713" name=""/>
                <p:cNvSpPr/>
                <p:nvPr/>
              </p:nvSpPr>
              <p:spPr>
                <a:xfrm>
                  <a:off x="6487560" y="2345400"/>
                  <a:ext cx="2476080" cy="50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6321960" y="2345400"/>
                  <a:ext cx="2808000" cy="506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715" name=""/>
              <p:cNvGrpSpPr/>
              <p:nvPr/>
            </p:nvGrpSpPr>
            <p:grpSpPr>
              <a:xfrm>
                <a:off x="11160" y="2851560"/>
                <a:ext cx="1710000" cy="506160"/>
                <a:chOff x="11160" y="2851560"/>
                <a:chExt cx="1710000" cy="506160"/>
              </a:xfrm>
            </p:grpSpPr>
            <p:sp>
              <p:nvSpPr>
                <p:cNvPr id="716" name=""/>
                <p:cNvSpPr/>
                <p:nvPr/>
              </p:nvSpPr>
              <p:spPr>
                <a:xfrm>
                  <a:off x="176760" y="2851560"/>
                  <a:ext cx="1378080" cy="50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3d</a:t>
                  </a:r>
                  <a:r>
                    <a:rPr b="0" lang="en-US" sz="2400" spc="-1" strike="noStrike" baseline="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11160" y="2851560"/>
                  <a:ext cx="1710000" cy="506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718" name=""/>
              <p:cNvGrpSpPr/>
              <p:nvPr/>
            </p:nvGrpSpPr>
            <p:grpSpPr>
              <a:xfrm>
                <a:off x="1721880" y="2851560"/>
                <a:ext cx="1860120" cy="506160"/>
                <a:chOff x="1721880" y="2851560"/>
                <a:chExt cx="1860120" cy="506160"/>
              </a:xfrm>
            </p:grpSpPr>
            <p:sp>
              <p:nvSpPr>
                <p:cNvPr id="719" name=""/>
                <p:cNvSpPr/>
                <p:nvPr/>
              </p:nvSpPr>
              <p:spPr>
                <a:xfrm>
                  <a:off x="1887480" y="2851560"/>
                  <a:ext cx="1528200" cy="50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baseline="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4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F</a:t>
                  </a:r>
                  <a:r>
                    <a:rPr b="0" lang="en-US" sz="2400" spc="-1" strike="noStrike" baseline="-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3/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1721880" y="2851560"/>
                  <a:ext cx="1860120" cy="506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721" name=""/>
              <p:cNvGrpSpPr/>
              <p:nvPr/>
            </p:nvGrpSpPr>
            <p:grpSpPr>
              <a:xfrm>
                <a:off x="3582720" y="2851560"/>
                <a:ext cx="2738160" cy="506160"/>
                <a:chOff x="3582720" y="2851560"/>
                <a:chExt cx="2738160" cy="506160"/>
              </a:xfrm>
            </p:grpSpPr>
            <p:sp>
              <p:nvSpPr>
                <p:cNvPr id="722" name=""/>
                <p:cNvSpPr/>
                <p:nvPr/>
              </p:nvSpPr>
              <p:spPr>
                <a:xfrm>
                  <a:off x="3747600" y="2851560"/>
                  <a:ext cx="2408040" cy="50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baseline="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4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A</a:t>
                  </a:r>
                  <a:r>
                    <a:rPr b="0" lang="en-US" sz="2400" spc="-1" strike="noStrike" baseline="-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3582720" y="2851560"/>
                  <a:ext cx="2738160" cy="506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724" name=""/>
              <p:cNvGrpSpPr/>
              <p:nvPr/>
            </p:nvGrpSpPr>
            <p:grpSpPr>
              <a:xfrm>
                <a:off x="6321960" y="2851560"/>
                <a:ext cx="2808000" cy="506160"/>
                <a:chOff x="6321960" y="2851560"/>
                <a:chExt cx="2808000" cy="506160"/>
              </a:xfrm>
            </p:grpSpPr>
            <p:sp>
              <p:nvSpPr>
                <p:cNvPr id="725" name=""/>
                <p:cNvSpPr/>
                <p:nvPr/>
              </p:nvSpPr>
              <p:spPr>
                <a:xfrm>
                  <a:off x="6487560" y="2851560"/>
                  <a:ext cx="2476080" cy="50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6321960" y="2851560"/>
                  <a:ext cx="2808000" cy="506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727" name=""/>
              <p:cNvGrpSpPr/>
              <p:nvPr/>
            </p:nvGrpSpPr>
            <p:grpSpPr>
              <a:xfrm>
                <a:off x="11160" y="3358080"/>
                <a:ext cx="1710000" cy="506160"/>
                <a:chOff x="11160" y="3358080"/>
                <a:chExt cx="1710000" cy="506160"/>
              </a:xfrm>
            </p:grpSpPr>
            <p:sp>
              <p:nvSpPr>
                <p:cNvPr id="728" name=""/>
                <p:cNvSpPr/>
                <p:nvPr/>
              </p:nvSpPr>
              <p:spPr>
                <a:xfrm>
                  <a:off x="176760" y="3358080"/>
                  <a:ext cx="1378080" cy="50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3d</a:t>
                  </a:r>
                  <a:r>
                    <a:rPr b="0" lang="en-US" sz="2400" spc="-1" strike="noStrike" baseline="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11160" y="3358080"/>
                  <a:ext cx="1710000" cy="506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730" name=""/>
              <p:cNvGrpSpPr/>
              <p:nvPr/>
            </p:nvGrpSpPr>
            <p:grpSpPr>
              <a:xfrm>
                <a:off x="1721880" y="3358080"/>
                <a:ext cx="1860120" cy="506160"/>
                <a:chOff x="1721880" y="3358080"/>
                <a:chExt cx="1860120" cy="506160"/>
              </a:xfrm>
            </p:grpSpPr>
            <p:sp>
              <p:nvSpPr>
                <p:cNvPr id="731" name=""/>
                <p:cNvSpPr/>
                <p:nvPr/>
              </p:nvSpPr>
              <p:spPr>
                <a:xfrm>
                  <a:off x="1887480" y="3358080"/>
                  <a:ext cx="1528200" cy="50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2400" spc="-1" strike="noStrike" baseline="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5</a:t>
                  </a:r>
                  <a:r>
                    <a:rPr b="0" lang="nl-NL" sz="2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D</a:t>
                  </a:r>
                  <a:r>
                    <a:rPr b="0" lang="nl-NL" sz="2400" spc="-1" strike="noStrike" baseline="-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1721880" y="3358080"/>
                  <a:ext cx="1860120" cy="506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733" name=""/>
              <p:cNvGrpSpPr/>
              <p:nvPr/>
            </p:nvGrpSpPr>
            <p:grpSpPr>
              <a:xfrm>
                <a:off x="3582720" y="3358080"/>
                <a:ext cx="2738160" cy="506160"/>
                <a:chOff x="3582720" y="3358080"/>
                <a:chExt cx="2738160" cy="506160"/>
              </a:xfrm>
            </p:grpSpPr>
            <p:sp>
              <p:nvSpPr>
                <p:cNvPr id="734" name=""/>
                <p:cNvSpPr/>
                <p:nvPr/>
              </p:nvSpPr>
              <p:spPr>
                <a:xfrm>
                  <a:off x="3747600" y="3358080"/>
                  <a:ext cx="2408040" cy="50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2400" spc="-1" strike="noStrike" baseline="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5</a:t>
                  </a:r>
                  <a:r>
                    <a:rPr b="0" lang="nl-NL" sz="2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3582720" y="3358080"/>
                  <a:ext cx="2738160" cy="506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736" name=""/>
              <p:cNvGrpSpPr/>
              <p:nvPr/>
            </p:nvGrpSpPr>
            <p:grpSpPr>
              <a:xfrm>
                <a:off x="6321960" y="3358080"/>
                <a:ext cx="2808000" cy="506160"/>
                <a:chOff x="6321960" y="3358080"/>
                <a:chExt cx="2808000" cy="506160"/>
              </a:xfrm>
            </p:grpSpPr>
            <p:sp>
              <p:nvSpPr>
                <p:cNvPr id="737" name=""/>
                <p:cNvSpPr/>
                <p:nvPr/>
              </p:nvSpPr>
              <p:spPr>
                <a:xfrm>
                  <a:off x="6487560" y="3358080"/>
                  <a:ext cx="2476080" cy="50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baseline="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3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T</a:t>
                  </a:r>
                  <a:r>
                    <a:rPr b="0" lang="en-US" sz="2400" spc="-1" strike="noStrike" baseline="-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6321960" y="3358080"/>
                  <a:ext cx="2808000" cy="506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739" name=""/>
              <p:cNvGrpSpPr/>
              <p:nvPr/>
            </p:nvGrpSpPr>
            <p:grpSpPr>
              <a:xfrm>
                <a:off x="11160" y="3864600"/>
                <a:ext cx="1710000" cy="506160"/>
                <a:chOff x="11160" y="3864600"/>
                <a:chExt cx="1710000" cy="506160"/>
              </a:xfrm>
            </p:grpSpPr>
            <p:sp>
              <p:nvSpPr>
                <p:cNvPr id="740" name=""/>
                <p:cNvSpPr/>
                <p:nvPr/>
              </p:nvSpPr>
              <p:spPr>
                <a:xfrm>
                  <a:off x="176760" y="3864600"/>
                  <a:ext cx="1378080" cy="50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3d</a:t>
                  </a:r>
                  <a:r>
                    <a:rPr b="0" lang="en-US" sz="2400" spc="-1" strike="noStrike" baseline="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11160" y="3864600"/>
                  <a:ext cx="1710000" cy="506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742" name=""/>
              <p:cNvGrpSpPr/>
              <p:nvPr/>
            </p:nvGrpSpPr>
            <p:grpSpPr>
              <a:xfrm>
                <a:off x="1721880" y="3864600"/>
                <a:ext cx="1860120" cy="506160"/>
                <a:chOff x="1721880" y="3864600"/>
                <a:chExt cx="1860120" cy="506160"/>
              </a:xfrm>
            </p:grpSpPr>
            <p:sp>
              <p:nvSpPr>
                <p:cNvPr id="743" name=""/>
                <p:cNvSpPr/>
                <p:nvPr/>
              </p:nvSpPr>
              <p:spPr>
                <a:xfrm>
                  <a:off x="1887480" y="3864600"/>
                  <a:ext cx="1528200" cy="50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baseline="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6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S</a:t>
                  </a:r>
                  <a:r>
                    <a:rPr b="0" lang="en-US" sz="2400" spc="-1" strike="noStrike" baseline="-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5/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1721880" y="3864600"/>
                  <a:ext cx="1860120" cy="506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745" name=""/>
              <p:cNvGrpSpPr/>
              <p:nvPr/>
            </p:nvGrpSpPr>
            <p:grpSpPr>
              <a:xfrm>
                <a:off x="3582720" y="3864600"/>
                <a:ext cx="2738160" cy="506160"/>
                <a:chOff x="3582720" y="3864600"/>
                <a:chExt cx="2738160" cy="506160"/>
              </a:xfrm>
            </p:grpSpPr>
            <p:sp>
              <p:nvSpPr>
                <p:cNvPr id="746" name=""/>
                <p:cNvSpPr/>
                <p:nvPr/>
              </p:nvSpPr>
              <p:spPr>
                <a:xfrm>
                  <a:off x="3747600" y="3864600"/>
                  <a:ext cx="2408040" cy="50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baseline="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6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A</a:t>
                  </a:r>
                  <a:r>
                    <a:rPr b="0" lang="en-US" sz="2400" spc="-1" strike="noStrike" baseline="-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3582720" y="3864600"/>
                  <a:ext cx="2738160" cy="506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748" name=""/>
              <p:cNvGrpSpPr/>
              <p:nvPr/>
            </p:nvGrpSpPr>
            <p:grpSpPr>
              <a:xfrm>
                <a:off x="6321960" y="3864600"/>
                <a:ext cx="2808000" cy="506160"/>
                <a:chOff x="6321960" y="3864600"/>
                <a:chExt cx="2808000" cy="506160"/>
              </a:xfrm>
            </p:grpSpPr>
            <p:sp>
              <p:nvSpPr>
                <p:cNvPr id="749" name=""/>
                <p:cNvSpPr/>
                <p:nvPr/>
              </p:nvSpPr>
              <p:spPr>
                <a:xfrm>
                  <a:off x="6487560" y="3864600"/>
                  <a:ext cx="2476080" cy="50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baseline="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2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T</a:t>
                  </a:r>
                  <a:r>
                    <a:rPr b="0" lang="en-US" sz="2400" spc="-1" strike="noStrike" baseline="-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6321960" y="3864600"/>
                  <a:ext cx="2808000" cy="506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751" name=""/>
              <p:cNvGrpSpPr/>
              <p:nvPr/>
            </p:nvGrpSpPr>
            <p:grpSpPr>
              <a:xfrm>
                <a:off x="11160" y="4370760"/>
                <a:ext cx="1710000" cy="506160"/>
                <a:chOff x="11160" y="4370760"/>
                <a:chExt cx="1710000" cy="506160"/>
              </a:xfrm>
            </p:grpSpPr>
            <p:sp>
              <p:nvSpPr>
                <p:cNvPr id="752" name=""/>
                <p:cNvSpPr/>
                <p:nvPr/>
              </p:nvSpPr>
              <p:spPr>
                <a:xfrm>
                  <a:off x="176760" y="4370760"/>
                  <a:ext cx="1378080" cy="50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3d</a:t>
                  </a:r>
                  <a:r>
                    <a:rPr b="0" lang="en-US" sz="2400" spc="-1" strike="noStrike" baseline="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6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11160" y="4370760"/>
                  <a:ext cx="1710000" cy="506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754" name=""/>
              <p:cNvGrpSpPr/>
              <p:nvPr/>
            </p:nvGrpSpPr>
            <p:grpSpPr>
              <a:xfrm>
                <a:off x="1721880" y="4370760"/>
                <a:ext cx="1860120" cy="506160"/>
                <a:chOff x="1721880" y="4370760"/>
                <a:chExt cx="1860120" cy="506160"/>
              </a:xfrm>
            </p:grpSpPr>
            <p:sp>
              <p:nvSpPr>
                <p:cNvPr id="755" name=""/>
                <p:cNvSpPr/>
                <p:nvPr/>
              </p:nvSpPr>
              <p:spPr>
                <a:xfrm>
                  <a:off x="1887480" y="4370760"/>
                  <a:ext cx="1528200" cy="50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baseline="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5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D</a:t>
                  </a:r>
                  <a:r>
                    <a:rPr b="0" lang="en-US" sz="2400" spc="-1" strike="noStrike" baseline="-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1721880" y="4370760"/>
                  <a:ext cx="1860120" cy="506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757" name=""/>
              <p:cNvGrpSpPr/>
              <p:nvPr/>
            </p:nvGrpSpPr>
            <p:grpSpPr>
              <a:xfrm>
                <a:off x="3582720" y="4370760"/>
                <a:ext cx="2738160" cy="506160"/>
                <a:chOff x="3582720" y="4370760"/>
                <a:chExt cx="2738160" cy="506160"/>
              </a:xfrm>
            </p:grpSpPr>
            <p:sp>
              <p:nvSpPr>
                <p:cNvPr id="758" name=""/>
                <p:cNvSpPr/>
                <p:nvPr/>
              </p:nvSpPr>
              <p:spPr>
                <a:xfrm>
                  <a:off x="3747600" y="4370760"/>
                  <a:ext cx="2408040" cy="50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2400" spc="-1" strike="noStrike" baseline="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5</a:t>
                  </a:r>
                  <a:r>
                    <a:rPr b="0" lang="nl-NL" sz="2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T</a:t>
                  </a:r>
                  <a:r>
                    <a:rPr b="0" lang="nl-NL" sz="2400" spc="-1" strike="noStrike" baseline="-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3582720" y="4370760"/>
                  <a:ext cx="2738160" cy="506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760" name=""/>
              <p:cNvGrpSpPr/>
              <p:nvPr/>
            </p:nvGrpSpPr>
            <p:grpSpPr>
              <a:xfrm>
                <a:off x="6321960" y="4370760"/>
                <a:ext cx="2808000" cy="506160"/>
                <a:chOff x="6321960" y="4370760"/>
                <a:chExt cx="2808000" cy="506160"/>
              </a:xfrm>
            </p:grpSpPr>
            <p:sp>
              <p:nvSpPr>
                <p:cNvPr id="761" name=""/>
                <p:cNvSpPr/>
                <p:nvPr/>
              </p:nvSpPr>
              <p:spPr>
                <a:xfrm>
                  <a:off x="6487560" y="4370760"/>
                  <a:ext cx="2476080" cy="50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baseline="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1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A</a:t>
                  </a:r>
                  <a:r>
                    <a:rPr b="0" lang="en-US" sz="2400" spc="-1" strike="noStrike" baseline="-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6321960" y="4370760"/>
                  <a:ext cx="2808000" cy="506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763" name=""/>
              <p:cNvGrpSpPr/>
              <p:nvPr/>
            </p:nvGrpSpPr>
            <p:grpSpPr>
              <a:xfrm>
                <a:off x="11160" y="4877280"/>
                <a:ext cx="1710000" cy="506160"/>
                <a:chOff x="11160" y="4877280"/>
                <a:chExt cx="1710000" cy="506160"/>
              </a:xfrm>
            </p:grpSpPr>
            <p:sp>
              <p:nvSpPr>
                <p:cNvPr id="764" name=""/>
                <p:cNvSpPr/>
                <p:nvPr/>
              </p:nvSpPr>
              <p:spPr>
                <a:xfrm>
                  <a:off x="176760" y="4877280"/>
                  <a:ext cx="1378080" cy="50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3d</a:t>
                  </a:r>
                  <a:r>
                    <a:rPr b="0" lang="en-US" sz="2400" spc="-1" strike="noStrike" baseline="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7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11160" y="4877280"/>
                  <a:ext cx="1710000" cy="506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766" name=""/>
              <p:cNvGrpSpPr/>
              <p:nvPr/>
            </p:nvGrpSpPr>
            <p:grpSpPr>
              <a:xfrm>
                <a:off x="1721880" y="4877280"/>
                <a:ext cx="1860120" cy="506160"/>
                <a:chOff x="1721880" y="4877280"/>
                <a:chExt cx="1860120" cy="506160"/>
              </a:xfrm>
            </p:grpSpPr>
            <p:sp>
              <p:nvSpPr>
                <p:cNvPr id="767" name=""/>
                <p:cNvSpPr/>
                <p:nvPr/>
              </p:nvSpPr>
              <p:spPr>
                <a:xfrm>
                  <a:off x="1887480" y="4877280"/>
                  <a:ext cx="1528200" cy="50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baseline="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4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F</a:t>
                  </a:r>
                  <a:r>
                    <a:rPr b="0" lang="en-US" sz="2400" spc="-1" strike="noStrike" baseline="-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9/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1721880" y="4877280"/>
                  <a:ext cx="1860120" cy="506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769" name=""/>
              <p:cNvGrpSpPr/>
              <p:nvPr/>
            </p:nvGrpSpPr>
            <p:grpSpPr>
              <a:xfrm>
                <a:off x="3582720" y="4877280"/>
                <a:ext cx="2738160" cy="506160"/>
                <a:chOff x="3582720" y="4877280"/>
                <a:chExt cx="2738160" cy="506160"/>
              </a:xfrm>
            </p:grpSpPr>
            <p:sp>
              <p:nvSpPr>
                <p:cNvPr id="770" name=""/>
                <p:cNvSpPr/>
                <p:nvPr/>
              </p:nvSpPr>
              <p:spPr>
                <a:xfrm>
                  <a:off x="3747600" y="4877280"/>
                  <a:ext cx="2408040" cy="50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baseline="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4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T</a:t>
                  </a:r>
                  <a:r>
                    <a:rPr b="0" lang="en-US" sz="2400" spc="-1" strike="noStrike" baseline="-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3582720" y="4877280"/>
                  <a:ext cx="2738160" cy="506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772" name=""/>
              <p:cNvGrpSpPr/>
              <p:nvPr/>
            </p:nvGrpSpPr>
            <p:grpSpPr>
              <a:xfrm>
                <a:off x="6321960" y="4877280"/>
                <a:ext cx="2808000" cy="506160"/>
                <a:chOff x="6321960" y="4877280"/>
                <a:chExt cx="2808000" cy="506160"/>
              </a:xfrm>
            </p:grpSpPr>
            <p:sp>
              <p:nvSpPr>
                <p:cNvPr id="773" name=""/>
                <p:cNvSpPr/>
                <p:nvPr/>
              </p:nvSpPr>
              <p:spPr>
                <a:xfrm>
                  <a:off x="6487560" y="4877280"/>
                  <a:ext cx="2476080" cy="50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baseline="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2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6321960" y="4877280"/>
                  <a:ext cx="2808000" cy="506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775" name=""/>
              <p:cNvGrpSpPr/>
              <p:nvPr/>
            </p:nvGrpSpPr>
            <p:grpSpPr>
              <a:xfrm>
                <a:off x="11160" y="5383800"/>
                <a:ext cx="1710000" cy="506160"/>
                <a:chOff x="11160" y="5383800"/>
                <a:chExt cx="1710000" cy="506160"/>
              </a:xfrm>
            </p:grpSpPr>
            <p:sp>
              <p:nvSpPr>
                <p:cNvPr id="776" name=""/>
                <p:cNvSpPr/>
                <p:nvPr/>
              </p:nvSpPr>
              <p:spPr>
                <a:xfrm>
                  <a:off x="176760" y="5383800"/>
                  <a:ext cx="1378080" cy="50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3d</a:t>
                  </a:r>
                  <a:r>
                    <a:rPr b="0" lang="en-US" sz="2400" spc="-1" strike="noStrike" baseline="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8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11160" y="5383800"/>
                  <a:ext cx="1710000" cy="506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778" name=""/>
              <p:cNvGrpSpPr/>
              <p:nvPr/>
            </p:nvGrpSpPr>
            <p:grpSpPr>
              <a:xfrm>
                <a:off x="1721880" y="5383800"/>
                <a:ext cx="1860120" cy="506160"/>
                <a:chOff x="1721880" y="5383800"/>
                <a:chExt cx="1860120" cy="506160"/>
              </a:xfrm>
            </p:grpSpPr>
            <p:sp>
              <p:nvSpPr>
                <p:cNvPr id="779" name=""/>
                <p:cNvSpPr/>
                <p:nvPr/>
              </p:nvSpPr>
              <p:spPr>
                <a:xfrm>
                  <a:off x="1887480" y="5383800"/>
                  <a:ext cx="1528200" cy="50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baseline="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3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F</a:t>
                  </a:r>
                  <a:r>
                    <a:rPr b="0" lang="en-US" sz="2400" spc="-1" strike="noStrike" baseline="-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1721880" y="5383800"/>
                  <a:ext cx="1860120" cy="506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781" name=""/>
              <p:cNvGrpSpPr/>
              <p:nvPr/>
            </p:nvGrpSpPr>
            <p:grpSpPr>
              <a:xfrm>
                <a:off x="3582720" y="5383800"/>
                <a:ext cx="2738160" cy="506160"/>
                <a:chOff x="3582720" y="5383800"/>
                <a:chExt cx="2738160" cy="506160"/>
              </a:xfrm>
            </p:grpSpPr>
            <p:sp>
              <p:nvSpPr>
                <p:cNvPr id="782" name=""/>
                <p:cNvSpPr/>
                <p:nvPr/>
              </p:nvSpPr>
              <p:spPr>
                <a:xfrm>
                  <a:off x="3747600" y="5383800"/>
                  <a:ext cx="2408040" cy="50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baseline="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3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A</a:t>
                  </a:r>
                  <a:r>
                    <a:rPr b="0" lang="en-US" sz="2400" spc="-1" strike="noStrike" baseline="-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3582720" y="5383800"/>
                  <a:ext cx="2738160" cy="506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784" name=""/>
              <p:cNvGrpSpPr/>
              <p:nvPr/>
            </p:nvGrpSpPr>
            <p:grpSpPr>
              <a:xfrm>
                <a:off x="6321960" y="5383800"/>
                <a:ext cx="2808000" cy="506160"/>
                <a:chOff x="6321960" y="5383800"/>
                <a:chExt cx="2808000" cy="506160"/>
              </a:xfrm>
            </p:grpSpPr>
            <p:sp>
              <p:nvSpPr>
                <p:cNvPr id="785" name=""/>
                <p:cNvSpPr/>
                <p:nvPr/>
              </p:nvSpPr>
              <p:spPr>
                <a:xfrm>
                  <a:off x="6487560" y="5383800"/>
                  <a:ext cx="2476080" cy="50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2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6321960" y="5383800"/>
                  <a:ext cx="2808000" cy="506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787" name=""/>
              <p:cNvGrpSpPr/>
              <p:nvPr/>
            </p:nvGrpSpPr>
            <p:grpSpPr>
              <a:xfrm>
                <a:off x="11160" y="5889960"/>
                <a:ext cx="1710000" cy="506520"/>
                <a:chOff x="11160" y="5889960"/>
                <a:chExt cx="1710000" cy="506520"/>
              </a:xfrm>
            </p:grpSpPr>
            <p:sp>
              <p:nvSpPr>
                <p:cNvPr id="788" name=""/>
                <p:cNvSpPr/>
                <p:nvPr/>
              </p:nvSpPr>
              <p:spPr>
                <a:xfrm>
                  <a:off x="176760" y="5889960"/>
                  <a:ext cx="1378080" cy="5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2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3d</a:t>
                  </a:r>
                  <a:r>
                    <a:rPr b="0" lang="nl-NL" sz="2400" spc="-1" strike="noStrike" baseline="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9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11160" y="5889960"/>
                  <a:ext cx="1710000" cy="5065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790" name=""/>
              <p:cNvGrpSpPr/>
              <p:nvPr/>
            </p:nvGrpSpPr>
            <p:grpSpPr>
              <a:xfrm>
                <a:off x="1721880" y="5889960"/>
                <a:ext cx="1860120" cy="506520"/>
                <a:chOff x="1721880" y="5889960"/>
                <a:chExt cx="1860120" cy="506520"/>
              </a:xfrm>
            </p:grpSpPr>
            <p:sp>
              <p:nvSpPr>
                <p:cNvPr id="791" name=""/>
                <p:cNvSpPr/>
                <p:nvPr/>
              </p:nvSpPr>
              <p:spPr>
                <a:xfrm>
                  <a:off x="1887480" y="5889960"/>
                  <a:ext cx="1528200" cy="5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2400" spc="-1" strike="noStrike" baseline="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2</a:t>
                  </a:r>
                  <a:r>
                    <a:rPr b="0" lang="nl-NL" sz="2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D</a:t>
                  </a:r>
                  <a:r>
                    <a:rPr b="0" lang="nl-NL" sz="2400" spc="-1" strike="noStrike" baseline="-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5/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1721880" y="5889960"/>
                  <a:ext cx="1860120" cy="5065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793" name=""/>
              <p:cNvGrpSpPr/>
              <p:nvPr/>
            </p:nvGrpSpPr>
            <p:grpSpPr>
              <a:xfrm>
                <a:off x="3582720" y="5889960"/>
                <a:ext cx="2738160" cy="506520"/>
                <a:chOff x="3582720" y="5889960"/>
                <a:chExt cx="2738160" cy="506520"/>
              </a:xfrm>
            </p:grpSpPr>
            <p:sp>
              <p:nvSpPr>
                <p:cNvPr id="794" name=""/>
                <p:cNvSpPr/>
                <p:nvPr/>
              </p:nvSpPr>
              <p:spPr>
                <a:xfrm>
                  <a:off x="3747600" y="5889960"/>
                  <a:ext cx="2408040" cy="5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2400" spc="-1" strike="noStrike" baseline="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2</a:t>
                  </a:r>
                  <a:r>
                    <a:rPr b="0" lang="nl-NL" sz="2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3582720" y="5889960"/>
                  <a:ext cx="2738160" cy="5065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796" name=""/>
              <p:cNvGrpSpPr/>
              <p:nvPr/>
            </p:nvGrpSpPr>
            <p:grpSpPr>
              <a:xfrm>
                <a:off x="6321960" y="5889960"/>
                <a:ext cx="2808000" cy="506520"/>
                <a:chOff x="6321960" y="5889960"/>
                <a:chExt cx="2808000" cy="506520"/>
              </a:xfrm>
            </p:grpSpPr>
            <p:sp>
              <p:nvSpPr>
                <p:cNvPr id="797" name=""/>
                <p:cNvSpPr/>
                <p:nvPr/>
              </p:nvSpPr>
              <p:spPr>
                <a:xfrm>
                  <a:off x="6487560" y="5889960"/>
                  <a:ext cx="2476080" cy="5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6321960" y="5889960"/>
                  <a:ext cx="2808000" cy="5065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</p:grpSp>
        <p:sp>
          <p:nvSpPr>
            <p:cNvPr id="799" name=""/>
            <p:cNvSpPr/>
            <p:nvPr/>
          </p:nvSpPr>
          <p:spPr>
            <a:xfrm>
              <a:off x="0" y="533520"/>
              <a:ext cx="9143280" cy="5867280"/>
            </a:xfrm>
            <a:prstGeom prst="rect">
              <a:avLst/>
            </a:prstGeom>
            <a:noFill/>
            <a:ln cap="sq"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sp>
        <p:nvSpPr>
          <p:cNvPr id="800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High-spin or Low-spin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1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8915400" cy="6524640"/>
          </a:xfrm>
          <a:prstGeom prst="rect">
            <a:avLst/>
          </a:prstGeom>
          <a:ln w="0">
            <a:noFill/>
          </a:ln>
        </p:spPr>
      </p:pic>
      <p:sp>
        <p:nvSpPr>
          <p:cNvPr id="802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3d</a:t>
            </a:r>
            <a:r>
              <a:rPr b="1" lang="en-US" sz="3600" spc="-1" strike="noStrike" baseline="30000">
                <a:solidFill>
                  <a:srgbClr val="0000ff"/>
                </a:solidFill>
                <a:latin typeface="Arial"/>
              </a:rPr>
              <a:t>5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high-spin: Fe</a:t>
            </a:r>
            <a:r>
              <a:rPr b="1" lang="en-US" sz="3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O</a:t>
            </a:r>
            <a:r>
              <a:rPr b="1" lang="en-US" sz="36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" descr=""/>
          <p:cNvPicPr/>
          <p:nvPr/>
        </p:nvPicPr>
        <p:blipFill>
          <a:blip r:embed="rId1"/>
          <a:stretch/>
        </p:blipFill>
        <p:spPr>
          <a:xfrm>
            <a:off x="304920" y="73080"/>
            <a:ext cx="8381880" cy="7048440"/>
          </a:xfrm>
          <a:prstGeom prst="rect">
            <a:avLst/>
          </a:prstGeom>
          <a:ln w="0">
            <a:noFill/>
          </a:ln>
        </p:spPr>
      </p:pic>
      <p:sp>
        <p:nvSpPr>
          <p:cNvPr id="804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3d</a:t>
            </a:r>
            <a:r>
              <a:rPr b="1" lang="en-US" sz="3600" spc="-1" strike="noStrike" baseline="30000">
                <a:solidFill>
                  <a:srgbClr val="0000ff"/>
                </a:solidFill>
                <a:latin typeface="Arial"/>
              </a:rPr>
              <a:t>5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low-spin: Fe</a:t>
            </a:r>
            <a:r>
              <a:rPr b="1" lang="en-US" sz="3600" spc="-1" strike="noStrike" baseline="30000">
                <a:solidFill>
                  <a:srgbClr val="0000ff"/>
                </a:solidFill>
                <a:latin typeface="Arial"/>
              </a:rPr>
              <a:t>III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(tacn)</a:t>
            </a:r>
            <a:r>
              <a:rPr b="1" lang="en-US" sz="3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/>
          <p:nvPr/>
        </p:nvSpPr>
        <p:spPr>
          <a:xfrm>
            <a:off x="0" y="685800"/>
            <a:ext cx="9144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333399"/>
              </a:buClr>
              <a:buFont typeface="Verdana"/>
              <a:buAutoNum type="arabicPeriod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Copy als3ti4.rcn to exti4.rcn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Verdana"/>
              <a:buAutoNum type="arabicPeriod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Copy als1ni2.plo to exti4.plo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Verdana"/>
              <a:buAutoNum type="arabicPeriod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Copy als1ni2.rac to exti4.rac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Verdana"/>
              <a:buAutoNum type="arabicPeriod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Run RCN2 and modify the exti4.rcf file in order to do crystal field multiplet calculations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Verdana"/>
              <a:buAutoNum type="arabicPeriod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Calculate a crystal field multiplet spectrum for a crystal field of 0.0 eV, 1.52 eV and 3.04 eV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Verdana"/>
              <a:buAutoNum type="arabicPeriod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Modify the exti4.plo file to plot the 3 spectra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Verdana"/>
              <a:buAutoNum type="arabicPeriod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Repeat the calculation for negative valu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Verdana"/>
              <a:buAutoNum type="arabicPeriod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Copy exti4.rcn to exco3.rcn and modify the file from Ti</a:t>
            </a:r>
            <a:r>
              <a:rPr b="0" lang="en-GB" sz="2400" spc="-1" strike="noStrike" baseline="30000">
                <a:solidFill>
                  <a:srgbClr val="333399"/>
                </a:solidFill>
                <a:latin typeface="Verdana"/>
                <a:ea typeface="Times New Roman"/>
              </a:rPr>
              <a:t>4+</a:t>
            </a:r>
            <a:r>
              <a:rPr b="0" lang="en-GB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 to Co</a:t>
            </a:r>
            <a:r>
              <a:rPr b="0" lang="en-GB" sz="2400" spc="-1" strike="noStrike" baseline="30000">
                <a:solidFill>
                  <a:srgbClr val="333399"/>
                </a:solidFill>
                <a:latin typeface="Verdana"/>
                <a:ea typeface="Times New Roman"/>
              </a:rPr>
              <a:t>3+</a:t>
            </a:r>
            <a:r>
              <a:rPr b="0" lang="en-GB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Verdana"/>
              <a:buAutoNum type="arabicPeriod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Calculate a crystal field multiplet spectrum for a crystal field of 0.0 eV, 1.52 eV and 3.04 eV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Verdana"/>
              <a:buAutoNum type="arabicPeriod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What happens between 1.52 eV and 3.04 eV?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6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Exercise: Crystal Field Effects on Co</a:t>
            </a:r>
            <a:r>
              <a:rPr b="1" lang="en-US" sz="3600" spc="-1" strike="noStrike" baseline="30000">
                <a:solidFill>
                  <a:srgbClr val="0000ff"/>
                </a:solidFill>
                <a:latin typeface="Arial"/>
              </a:rPr>
              <a:t>3+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als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4ti4a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.r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ac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1523880"/>
            <a:ext cx="9144000" cy="471780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% vertical 1 1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butler O3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to    Oh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endchain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actor   0+ HAMILTONIAN ground  PRINTEIG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OPER HAMILTONIAN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BRANCH 0+ &gt; 0 0+      1.0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OPER SHELL2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BRANCH 4+ &gt; 0 0+     </a:t>
            </a:r>
            <a:r>
              <a:rPr b="0" lang="en-GB" sz="1600" spc="-1" strike="noStrike">
                <a:solidFill>
                  <a:srgbClr val="ff0000"/>
                </a:solidFill>
                <a:latin typeface="Courier New"/>
                <a:ea typeface="MS Mincho"/>
              </a:rPr>
              <a:t>0.00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actor   0+ HAMILTONIAN excite  PRINTEIG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OPER HAMILTONIAN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BRANCH 0+ &gt; 0 0+     1.0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OPER SHELL2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BRANCH 4+ &gt; 0 0+     </a:t>
            </a:r>
            <a:r>
              <a:rPr b="0" lang="en-GB" sz="1600" spc="-1" strike="noStrike">
                <a:solidFill>
                  <a:srgbClr val="ff0000"/>
                </a:solidFill>
                <a:latin typeface="Courier New"/>
                <a:ea typeface="MS Mincho"/>
              </a:rPr>
              <a:t>0.00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actor  1- plane       transi PRINTTRANS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oper MULTIPOLE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branch  1- &gt; 0 1-   1.000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RUN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 Unicode MS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0" name=""/>
          <p:cNvSpPr/>
          <p:nvPr/>
        </p:nvSpPr>
        <p:spPr>
          <a:xfrm>
            <a:off x="2895480" y="1752480"/>
            <a:ext cx="624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Always the same rac-file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in Oh symmetry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rystal Field Effects in CTM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828800" y="1590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291960"/>
            <a:ext cx="9144000" cy="61279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888000" y="685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5" name=""/>
          <p:cNvSpPr/>
          <p:nvPr/>
        </p:nvSpPr>
        <p:spPr>
          <a:xfrm>
            <a:off x="5107320" y="685800"/>
            <a:ext cx="201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7 = 2.13 eV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rystal Field Effects in CTM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als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4ti4a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.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ora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1523880"/>
            <a:ext cx="10972800" cy="252756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TRANSFORMED MATRIX for TRIAD  2  (  0+   1-   1- 0) (1*7)  DIM :1:3:3   ACTOR PLANE          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---- MATRIX ----      PRINTTRANS     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BRA/KET :  461.1850  461.9710  463.0501  463.5387  465.4900  468.5141  470.9370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-----------------------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0.00000:  0.009445  0.015776  0.137714  0.021110  0.505803  0.346162  0.963990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TRANSFORMATION FINISHED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 Unicode MS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44956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7 lines with energy and intensity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rystal Field Effects in CTM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2098800" y="7628040"/>
                <a:ext cx="123840" cy="2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0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2098800" y="7628040"/>
                <a:ext cx="95040" cy="19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1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98800" y="10186920"/>
                <a:ext cx="9504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1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pSp>
        <p:nvGrpSpPr>
          <p:cNvPr id="145" name=""/>
          <p:cNvGrpSpPr/>
          <p:nvPr/>
        </p:nvGrpSpPr>
        <p:grpSpPr>
          <a:xfrm>
            <a:off x="0" y="685800"/>
            <a:ext cx="9143640" cy="5790960"/>
            <a:chOff x="0" y="685800"/>
            <a:chExt cx="9143640" cy="5790960"/>
          </a:xfrm>
        </p:grpSpPr>
        <p:grpSp>
          <p:nvGrpSpPr>
            <p:cNvPr id="146" name=""/>
            <p:cNvGrpSpPr/>
            <p:nvPr/>
          </p:nvGrpSpPr>
          <p:grpSpPr>
            <a:xfrm>
              <a:off x="8280" y="692640"/>
              <a:ext cx="9125640" cy="5776200"/>
              <a:chOff x="8280" y="692640"/>
              <a:chExt cx="9125640" cy="5776200"/>
            </a:xfrm>
          </p:grpSpPr>
          <p:grpSp>
            <p:nvGrpSpPr>
              <p:cNvPr id="147" name=""/>
              <p:cNvGrpSpPr/>
              <p:nvPr/>
            </p:nvGrpSpPr>
            <p:grpSpPr>
              <a:xfrm>
                <a:off x="8280" y="692640"/>
                <a:ext cx="2417760" cy="962280"/>
                <a:chOff x="8280" y="692640"/>
                <a:chExt cx="2417760" cy="96228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134280" y="692640"/>
                  <a:ext cx="2166120" cy="96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SO</a:t>
                  </a:r>
                  <a:r>
                    <a:rPr b="0" lang="en-US" sz="2800" spc="-1" strike="noStrike" baseline="-30000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3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280" y="692640"/>
                  <a:ext cx="2417760" cy="9622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2426400" y="692640"/>
                <a:ext cx="3905640" cy="962280"/>
                <a:chOff x="2426400" y="692640"/>
                <a:chExt cx="3905640" cy="96228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2552400" y="692640"/>
                  <a:ext cx="3653280" cy="96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O</a:t>
                  </a:r>
                  <a:r>
                    <a:rPr b="0" lang="en-US" sz="2800" spc="-1" strike="noStrike" baseline="-30000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h </a:t>
                  </a:r>
                  <a:r>
                    <a:rPr b="0" lang="en-US" sz="28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(Butler)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2426400" y="692640"/>
                  <a:ext cx="3905640" cy="9622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6332400" y="692640"/>
                <a:ext cx="2801520" cy="962280"/>
                <a:chOff x="6332400" y="692640"/>
                <a:chExt cx="2801520" cy="96228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6458400" y="692640"/>
                  <a:ext cx="2549160" cy="96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28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O</a:t>
                  </a:r>
                  <a:r>
                    <a:rPr b="0" lang="nl-NL" sz="2800" spc="-1" strike="noStrike" baseline="-30000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h </a:t>
                  </a:r>
                  <a:r>
                    <a:rPr b="0" lang="nl-NL" sz="28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(Mulliken)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6332400" y="692640"/>
                  <a:ext cx="2801520" cy="9622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8280" y="1655280"/>
                <a:ext cx="1199880" cy="962280"/>
                <a:chOff x="8280" y="1655280"/>
                <a:chExt cx="1199880" cy="96228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134280" y="1655280"/>
                  <a:ext cx="947520" cy="96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28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8280" y="1655280"/>
                  <a:ext cx="1199880" cy="9622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1208520" y="1655280"/>
                <a:ext cx="1217160" cy="962280"/>
                <a:chOff x="1208520" y="1655280"/>
                <a:chExt cx="1217160" cy="96228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1334520" y="1655280"/>
                  <a:ext cx="965520" cy="962280"/>
                </a:xfrm>
                <a:prstGeom prst="rect">
                  <a:avLst/>
                </a:pr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1208520" y="1655280"/>
                  <a:ext cx="1217160" cy="9622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426400" y="1655280"/>
                <a:ext cx="3905640" cy="962280"/>
                <a:chOff x="2426400" y="1655280"/>
                <a:chExt cx="3905640" cy="96228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552400" y="1655280"/>
                  <a:ext cx="3653280" cy="96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426400" y="1655280"/>
                  <a:ext cx="3905640" cy="9622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6332400" y="1655280"/>
                <a:ext cx="2801520" cy="962280"/>
                <a:chOff x="6332400" y="1655280"/>
                <a:chExt cx="2801520" cy="96228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6458400" y="1655280"/>
                  <a:ext cx="2549160" cy="96228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A</a:t>
                  </a:r>
                  <a:r>
                    <a:rPr b="0" lang="en-US" sz="2800" spc="-1" strike="noStrike" baseline="-30000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6332400" y="1655280"/>
                  <a:ext cx="2801520" cy="9622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8280" y="2617920"/>
                <a:ext cx="1199880" cy="962280"/>
                <a:chOff x="8280" y="2617920"/>
                <a:chExt cx="1199880" cy="96228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134280" y="2617920"/>
                  <a:ext cx="947520" cy="96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P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8280" y="2617920"/>
                  <a:ext cx="1199880" cy="9622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1208520" y="2617920"/>
                <a:ext cx="1217160" cy="962280"/>
                <a:chOff x="1208520" y="2617920"/>
                <a:chExt cx="1217160" cy="96228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1334520" y="2617920"/>
                  <a:ext cx="965520" cy="962280"/>
                </a:xfrm>
                <a:prstGeom prst="rect">
                  <a:avLst/>
                </a:pr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208520" y="2617920"/>
                  <a:ext cx="1217160" cy="9622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2426400" y="2617920"/>
                <a:ext cx="3905640" cy="962280"/>
                <a:chOff x="2426400" y="2617920"/>
                <a:chExt cx="3905640" cy="96228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2552400" y="2617920"/>
                  <a:ext cx="3653280" cy="96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2426400" y="2617920"/>
                  <a:ext cx="3905640" cy="9622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6332400" y="2617920"/>
                <a:ext cx="2801520" cy="962280"/>
                <a:chOff x="6332400" y="2617920"/>
                <a:chExt cx="2801520" cy="96228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6458400" y="2617920"/>
                  <a:ext cx="2549160" cy="96228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T</a:t>
                  </a:r>
                  <a:r>
                    <a:rPr b="0" lang="en-US" sz="2800" spc="-1" strike="noStrike" baseline="-30000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6332400" y="2617920"/>
                  <a:ext cx="2801520" cy="9622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8280" y="3580560"/>
                <a:ext cx="1199880" cy="962280"/>
                <a:chOff x="8280" y="3580560"/>
                <a:chExt cx="1199880" cy="96228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134280" y="3580560"/>
                  <a:ext cx="947520" cy="96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D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8280" y="3580560"/>
                  <a:ext cx="1199880" cy="9622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1208520" y="3580560"/>
                <a:ext cx="1217160" cy="962280"/>
                <a:chOff x="1208520" y="3580560"/>
                <a:chExt cx="1217160" cy="96228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1334520" y="3580560"/>
                  <a:ext cx="965520" cy="962280"/>
                </a:xfrm>
                <a:prstGeom prst="rect">
                  <a:avLst/>
                </a:pr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2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208520" y="3580560"/>
                  <a:ext cx="1217160" cy="9622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2426400" y="3580560"/>
                <a:ext cx="3905640" cy="962280"/>
                <a:chOff x="2426400" y="3580560"/>
                <a:chExt cx="3905640" cy="96228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2552400" y="3580560"/>
                  <a:ext cx="3653280" cy="96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2 + ^1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2426400" y="3580560"/>
                  <a:ext cx="3905640" cy="9622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6332400" y="3580560"/>
                <a:ext cx="2801520" cy="962280"/>
                <a:chOff x="6332400" y="3580560"/>
                <a:chExt cx="2801520" cy="96228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6458400" y="3580560"/>
                  <a:ext cx="2549160" cy="96228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E+T</a:t>
                  </a:r>
                  <a:r>
                    <a:rPr b="0" lang="en-US" sz="2800" spc="-1" strike="noStrike" baseline="-30000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2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6332400" y="3580560"/>
                  <a:ext cx="2801520" cy="9622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8280" y="4543200"/>
                <a:ext cx="1199880" cy="962640"/>
                <a:chOff x="8280" y="4543200"/>
                <a:chExt cx="1199880" cy="96264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134280" y="4543200"/>
                  <a:ext cx="947520" cy="96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F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8280" y="4543200"/>
                  <a:ext cx="1199880" cy="9626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1208520" y="4543200"/>
                <a:ext cx="1217160" cy="962640"/>
                <a:chOff x="1208520" y="4543200"/>
                <a:chExt cx="1217160" cy="96264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1334520" y="4543200"/>
                  <a:ext cx="965520" cy="962640"/>
                </a:xfrm>
                <a:prstGeom prst="rect">
                  <a:avLst/>
                </a:pr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3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1208520" y="4543200"/>
                  <a:ext cx="1217160" cy="9626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2426400" y="4543200"/>
                <a:ext cx="3905640" cy="962640"/>
                <a:chOff x="2426400" y="4543200"/>
                <a:chExt cx="3905640" cy="9626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2552400" y="4543200"/>
                  <a:ext cx="3653280" cy="96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 </a:t>
                  </a:r>
                  <a:r>
                    <a:rPr b="0" lang="en-US" sz="28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^0+ 1 +^1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2426400" y="4543200"/>
                  <a:ext cx="3905640" cy="9626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6332400" y="4543200"/>
                <a:ext cx="2801520" cy="962640"/>
                <a:chOff x="6332400" y="4543200"/>
                <a:chExt cx="2801520" cy="96264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6458400" y="4543200"/>
                  <a:ext cx="2549160" cy="96264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A</a:t>
                  </a:r>
                  <a:r>
                    <a:rPr b="0" lang="en-US" sz="2800" spc="-1" strike="noStrike" baseline="-30000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2</a:t>
                  </a:r>
                  <a:r>
                    <a:rPr b="0" lang="en-US" sz="28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+T</a:t>
                  </a:r>
                  <a:r>
                    <a:rPr b="0" lang="en-US" sz="2800" spc="-1" strike="noStrike" baseline="-30000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1</a:t>
                  </a:r>
                  <a:r>
                    <a:rPr b="0" lang="en-US" sz="28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+T</a:t>
                  </a:r>
                  <a:r>
                    <a:rPr b="0" lang="en-US" sz="2800" spc="-1" strike="noStrike" baseline="-30000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2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6332400" y="4543200"/>
                  <a:ext cx="2801520" cy="9626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8280" y="5506560"/>
                <a:ext cx="1199880" cy="962280"/>
                <a:chOff x="8280" y="5506560"/>
                <a:chExt cx="1199880" cy="96228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134280" y="5506560"/>
                  <a:ext cx="947520" cy="96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G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8280" y="5506560"/>
                  <a:ext cx="1199880" cy="9622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1208520" y="5506560"/>
                <a:ext cx="1217160" cy="962280"/>
                <a:chOff x="1208520" y="5506560"/>
                <a:chExt cx="1217160" cy="96228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1334520" y="5506560"/>
                  <a:ext cx="965520" cy="962280"/>
                </a:xfrm>
                <a:prstGeom prst="rect">
                  <a:avLst/>
                </a:pr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4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1208520" y="5506560"/>
                  <a:ext cx="1217160" cy="9622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2426400" y="5506560"/>
                <a:ext cx="3905640" cy="962280"/>
                <a:chOff x="2426400" y="5506560"/>
                <a:chExt cx="3905640" cy="96228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2552400" y="5506560"/>
                  <a:ext cx="3653280" cy="96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0 + 1 + 2 + ^1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2426400" y="5506560"/>
                  <a:ext cx="3905640" cy="9622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6332400" y="5506560"/>
                <a:ext cx="2801520" cy="962280"/>
                <a:chOff x="6332400" y="5506560"/>
                <a:chExt cx="2801520" cy="96228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6458400" y="5506560"/>
                  <a:ext cx="2549160" cy="96228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A</a:t>
                  </a:r>
                  <a:r>
                    <a:rPr b="0" lang="en-US" sz="2800" spc="-1" strike="noStrike" baseline="-30000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1</a:t>
                  </a:r>
                  <a:r>
                    <a:rPr b="0" lang="en-US" sz="28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+E+T</a:t>
                  </a:r>
                  <a:r>
                    <a:rPr b="0" lang="en-US" sz="2800" spc="-1" strike="noStrike" baseline="-30000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1</a:t>
                  </a:r>
                  <a:r>
                    <a:rPr b="0" lang="en-US" sz="28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+T</a:t>
                  </a:r>
                  <a:r>
                    <a:rPr b="0" lang="en-US" sz="2800" spc="-1" strike="noStrike" baseline="-30000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2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332400" y="5506560"/>
                  <a:ext cx="2801520" cy="9622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</p:grpSp>
        <p:sp>
          <p:nvSpPr>
            <p:cNvPr id="216" name=""/>
            <p:cNvSpPr/>
            <p:nvPr/>
          </p:nvSpPr>
          <p:spPr>
            <a:xfrm>
              <a:off x="0" y="685800"/>
              <a:ext cx="9143640" cy="5790960"/>
            </a:xfrm>
            <a:prstGeom prst="rect">
              <a:avLst/>
            </a:prstGeom>
            <a:noFill/>
            <a:ln cap="sq"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Crystal Field Effects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-762120" y="838080"/>
            <a:ext cx="9906120" cy="59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i</a:t>
            </a:r>
            <a:r>
              <a:rPr b="0" lang="en-US" sz="2800" spc="-1" strike="noStrike" baseline="30000">
                <a:solidFill>
                  <a:srgbClr val="0000ff"/>
                </a:solidFill>
                <a:latin typeface="Arial"/>
              </a:rPr>
              <a:t>IV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ion in TiO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3d</a:t>
            </a:r>
            <a:r>
              <a:rPr b="0" lang="en-US" sz="2800" spc="-1" strike="noStrike" baseline="30000">
                <a:solidFill>
                  <a:srgbClr val="0000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-configuration: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 baseline="30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, 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j=0</a:t>
            </a:r>
            <a:br>
              <a:rPr sz="2800"/>
            </a:b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2p</a:t>
            </a:r>
            <a:r>
              <a:rPr b="0" lang="en-US" sz="2800" spc="-1" strike="noStrike" baseline="30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3d</a:t>
            </a:r>
            <a:r>
              <a:rPr b="0" lang="en-US" sz="2800" spc="-1" strike="noStrike" baseline="30000">
                <a:solidFill>
                  <a:srgbClr val="0000ff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-configuration: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</a:t>
            </a:r>
            <a:r>
              <a:rPr b="0" lang="en-US" sz="28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 = 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1,3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PDF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   j’=0,1,2,3,4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-transition: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 baseline="30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j=+1,0,-1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rite out all term symbols: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2800" spc="-1" strike="noStrike" baseline="30000">
                <a:solidFill>
                  <a:srgbClr val="cc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0099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0099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99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800" spc="-1" strike="noStrike" baseline="30000">
                <a:solidFill>
                  <a:srgbClr val="cc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99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800" spc="-1" strike="noStrike" baseline="30000">
                <a:solidFill>
                  <a:srgbClr val="cc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0099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0099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0099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0099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0099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3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4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3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1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2p XAS of TiO</a:t>
            </a:r>
            <a:r>
              <a:rPr b="1" lang="en-US" sz="3600" spc="-1" strike="noStrike" baseline="-25000">
                <a:solidFill>
                  <a:srgbClr val="0000ff"/>
                </a:solidFill>
                <a:latin typeface="Arial"/>
              </a:rPr>
              <a:t>2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(atomic multiplets)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"/>
          <p:cNvGrpSpPr/>
          <p:nvPr/>
        </p:nvGrpSpPr>
        <p:grpSpPr>
          <a:xfrm>
            <a:off x="0" y="990720"/>
            <a:ext cx="9143280" cy="4670280"/>
            <a:chOff x="0" y="990720"/>
            <a:chExt cx="9143280" cy="4670280"/>
          </a:xfrm>
        </p:grpSpPr>
        <p:grpSp>
          <p:nvGrpSpPr>
            <p:cNvPr id="221" name=""/>
            <p:cNvGrpSpPr/>
            <p:nvPr/>
          </p:nvGrpSpPr>
          <p:grpSpPr>
            <a:xfrm>
              <a:off x="9360" y="995400"/>
              <a:ext cx="9123120" cy="4660920"/>
              <a:chOff x="9360" y="995400"/>
              <a:chExt cx="9123120" cy="4660920"/>
            </a:xfrm>
          </p:grpSpPr>
          <p:grpSp>
            <p:nvGrpSpPr>
              <p:cNvPr id="222" name=""/>
              <p:cNvGrpSpPr/>
              <p:nvPr/>
            </p:nvGrpSpPr>
            <p:grpSpPr>
              <a:xfrm>
                <a:off x="9360" y="995400"/>
                <a:ext cx="1648800" cy="822240"/>
                <a:chOff x="9360" y="995400"/>
                <a:chExt cx="1648800" cy="82224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147240" y="995400"/>
                  <a:ext cx="137268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J in SO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9360" y="995400"/>
                  <a:ext cx="164880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1658880" y="995400"/>
                <a:ext cx="1186200" cy="822240"/>
                <a:chOff x="1658880" y="995400"/>
                <a:chExt cx="1186200" cy="82224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1796040" y="995400"/>
                  <a:ext cx="911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Deg.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1658880" y="995400"/>
                  <a:ext cx="118620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2846160" y="995400"/>
                <a:ext cx="3308400" cy="822240"/>
                <a:chOff x="2846160" y="995400"/>
                <a:chExt cx="3308400" cy="82224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2984400" y="995400"/>
                  <a:ext cx="30319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Branchings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2846160" y="995400"/>
                  <a:ext cx="330840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6155280" y="995400"/>
                <a:ext cx="1609560" cy="822240"/>
                <a:chOff x="6155280" y="995400"/>
                <a:chExt cx="1609560" cy="8222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6292440" y="995400"/>
                  <a:ext cx="133488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Symbol"/>
                      <a:ea typeface="Symbol"/>
                    </a:rPr>
                    <a:t>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 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in O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h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6155280" y="995400"/>
                  <a:ext cx="160956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7765920" y="995400"/>
                <a:ext cx="1366560" cy="822240"/>
                <a:chOff x="7765920" y="995400"/>
                <a:chExt cx="1366560" cy="82224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7903800" y="995400"/>
                  <a:ext cx="10904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Deg.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7765920" y="995400"/>
                  <a:ext cx="136656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9360" y="1817640"/>
                <a:ext cx="1648800" cy="639720"/>
                <a:chOff x="9360" y="1817640"/>
                <a:chExt cx="1648800" cy="63972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147240" y="1817640"/>
                  <a:ext cx="13726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9360" y="1817640"/>
                  <a:ext cx="164880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1658880" y="1817640"/>
                <a:ext cx="1186200" cy="639720"/>
                <a:chOff x="1658880" y="1817640"/>
                <a:chExt cx="1186200" cy="63972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1796040" y="1817640"/>
                  <a:ext cx="9115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1658880" y="1817640"/>
                  <a:ext cx="118620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2846160" y="1817640"/>
                <a:ext cx="3308400" cy="639720"/>
                <a:chOff x="2846160" y="1817640"/>
                <a:chExt cx="3308400" cy="63972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2984400" y="1817640"/>
                  <a:ext cx="30319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A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846160" y="1817640"/>
                  <a:ext cx="330840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6155280" y="1817640"/>
                <a:ext cx="1609560" cy="639720"/>
                <a:chOff x="6155280" y="1817640"/>
                <a:chExt cx="1609560" cy="63972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6292440" y="1817640"/>
                  <a:ext cx="13348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A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6155280" y="1817640"/>
                  <a:ext cx="160956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7765920" y="1817640"/>
                <a:ext cx="1366560" cy="639720"/>
                <a:chOff x="7765920" y="1817640"/>
                <a:chExt cx="1366560" cy="63972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7903800" y="1817640"/>
                  <a:ext cx="10904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7765920" y="1817640"/>
                  <a:ext cx="136656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9360" y="2457360"/>
                <a:ext cx="1648800" cy="639720"/>
                <a:chOff x="9360" y="2457360"/>
                <a:chExt cx="1648800" cy="63972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147240" y="2457360"/>
                  <a:ext cx="1372680" cy="639720"/>
                </a:xfrm>
                <a:prstGeom prst="rect">
                  <a:avLst/>
                </a:prstGeom>
                <a:solidFill>
                  <a:srgbClr val="00ff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9360" y="2457360"/>
                  <a:ext cx="164880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1658880" y="2457360"/>
                <a:ext cx="1186200" cy="639720"/>
                <a:chOff x="1658880" y="2457360"/>
                <a:chExt cx="1186200" cy="63972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1796040" y="2457360"/>
                  <a:ext cx="911520" cy="639720"/>
                </a:xfrm>
                <a:prstGeom prst="rect">
                  <a:avLst/>
                </a:prstGeom>
                <a:solidFill>
                  <a:srgbClr val="00ff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1658880" y="2457360"/>
                  <a:ext cx="118620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2846160" y="2457360"/>
                <a:ext cx="3308400" cy="639720"/>
                <a:chOff x="2846160" y="2457360"/>
                <a:chExt cx="3308400" cy="63972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2984400" y="2457360"/>
                  <a:ext cx="30319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3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Symbol"/>
                      <a:ea typeface="Symbol"/>
                    </a:rPr>
                    <a:t>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T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2846160" y="2457360"/>
                  <a:ext cx="330840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6155280" y="2457360"/>
                <a:ext cx="1609560" cy="639720"/>
                <a:chOff x="6155280" y="2457360"/>
                <a:chExt cx="1609560" cy="63972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6292440" y="2457360"/>
                  <a:ext cx="13348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A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155280" y="2457360"/>
                  <a:ext cx="160956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7765920" y="2457360"/>
                <a:ext cx="1366560" cy="639720"/>
                <a:chOff x="7765920" y="2457360"/>
                <a:chExt cx="1366560" cy="63972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7903800" y="2457360"/>
                  <a:ext cx="10904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7765920" y="2457360"/>
                  <a:ext cx="136656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9360" y="3097080"/>
                <a:ext cx="1648800" cy="640080"/>
                <a:chOff x="9360" y="3097080"/>
                <a:chExt cx="1648800" cy="64008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147240" y="3097080"/>
                  <a:ext cx="137268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9360" y="3097080"/>
                  <a:ext cx="1648800" cy="6400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1658880" y="3097080"/>
                <a:ext cx="1186200" cy="640080"/>
                <a:chOff x="1658880" y="3097080"/>
                <a:chExt cx="1186200" cy="64008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1796040" y="3097080"/>
                  <a:ext cx="91152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1658880" y="3097080"/>
                  <a:ext cx="1186200" cy="6400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2846160" y="3097080"/>
                <a:ext cx="3308400" cy="640080"/>
                <a:chOff x="2846160" y="3097080"/>
                <a:chExt cx="3308400" cy="640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2984400" y="3097080"/>
                  <a:ext cx="303192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4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Symbol"/>
                      <a:ea typeface="Symbol"/>
                    </a:rPr>
                    <a:t>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E, 4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Symbol"/>
                      <a:ea typeface="Symbol"/>
                    </a:rPr>
                    <a:t>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T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846160" y="3097080"/>
                  <a:ext cx="3308400" cy="6400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6155280" y="3097080"/>
                <a:ext cx="1609560" cy="640080"/>
                <a:chOff x="6155280" y="3097080"/>
                <a:chExt cx="1609560" cy="640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6292440" y="3097080"/>
                  <a:ext cx="1334880" cy="640080"/>
                </a:xfrm>
                <a:prstGeom prst="rect">
                  <a:avLst/>
                </a:prstGeom>
                <a:solidFill>
                  <a:srgbClr val="ff99cc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T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6155280" y="3097080"/>
                  <a:ext cx="1609560" cy="6400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7765920" y="3097080"/>
                <a:ext cx="1366560" cy="640080"/>
                <a:chOff x="7765920" y="3097080"/>
                <a:chExt cx="1366560" cy="640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7903800" y="3097080"/>
                  <a:ext cx="1090440" cy="640080"/>
                </a:xfrm>
                <a:prstGeom prst="rect">
                  <a:avLst/>
                </a:prstGeom>
                <a:solidFill>
                  <a:srgbClr val="ff99cc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7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7765920" y="3097080"/>
                  <a:ext cx="1366560" cy="6400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9360" y="3737160"/>
                <a:ext cx="1648800" cy="639720"/>
                <a:chOff x="9360" y="3737160"/>
                <a:chExt cx="1648800" cy="63972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147240" y="3737160"/>
                  <a:ext cx="13726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9360" y="3737160"/>
                  <a:ext cx="164880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1658880" y="3737160"/>
                <a:ext cx="1186200" cy="639720"/>
                <a:chOff x="1658880" y="3737160"/>
                <a:chExt cx="1186200" cy="63972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1796040" y="3737160"/>
                  <a:ext cx="9115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1658880" y="3737160"/>
                  <a:ext cx="118620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46160" y="3737160"/>
                <a:ext cx="3308400" cy="639720"/>
                <a:chOff x="2846160" y="3737160"/>
                <a:chExt cx="3308400" cy="63972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984400" y="3737160"/>
                  <a:ext cx="30319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3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Symbol"/>
                      <a:ea typeface="Symbol"/>
                    </a:rPr>
                    <a:t>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A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2, 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3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Symbol"/>
                      <a:ea typeface="Symbol"/>
                    </a:rPr>
                    <a:t>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T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1,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3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Symbol"/>
                      <a:ea typeface="Symbol"/>
                    </a:rPr>
                    <a:t>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T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46160" y="3737160"/>
                  <a:ext cx="330840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6155280" y="3737160"/>
                <a:ext cx="1609560" cy="639720"/>
                <a:chOff x="6155280" y="3737160"/>
                <a:chExt cx="1609560" cy="63972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6292440" y="3737160"/>
                  <a:ext cx="13348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T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6155280" y="3737160"/>
                  <a:ext cx="160956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7765920" y="3737160"/>
                <a:ext cx="1366560" cy="639720"/>
                <a:chOff x="7765920" y="3737160"/>
                <a:chExt cx="1366560" cy="63972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7903800" y="3737160"/>
                  <a:ext cx="10904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8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7765920" y="3737160"/>
                  <a:ext cx="136656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9360" y="4376880"/>
                <a:ext cx="1648800" cy="639720"/>
                <a:chOff x="9360" y="4376880"/>
                <a:chExt cx="1648800" cy="63972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147240" y="4376880"/>
                  <a:ext cx="13726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9360" y="4376880"/>
                  <a:ext cx="164880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1658880" y="4376880"/>
                <a:ext cx="1186200" cy="639720"/>
                <a:chOff x="1658880" y="4376880"/>
                <a:chExt cx="1186200" cy="63972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1796040" y="4376880"/>
                  <a:ext cx="9115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1658880" y="4376880"/>
                  <a:ext cx="118620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2846160" y="4376880"/>
                <a:ext cx="3308400" cy="639720"/>
                <a:chOff x="2846160" y="4376880"/>
                <a:chExt cx="3308400" cy="63972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2984400" y="4376880"/>
                  <a:ext cx="30319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A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1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, E, T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1, 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T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2846160" y="4376880"/>
                  <a:ext cx="330840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155280" y="4376880"/>
                <a:ext cx="1609560" cy="639720"/>
                <a:chOff x="6155280" y="4376880"/>
                <a:chExt cx="1609560" cy="63972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292440" y="4376880"/>
                  <a:ext cx="13348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155280" y="4376880"/>
                  <a:ext cx="160956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7765920" y="4376880"/>
                <a:ext cx="1366560" cy="639720"/>
                <a:chOff x="7765920" y="4376880"/>
                <a:chExt cx="1366560" cy="6397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7903800" y="4376880"/>
                  <a:ext cx="10904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7765920" y="4376880"/>
                  <a:ext cx="136656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9360" y="5016600"/>
                <a:ext cx="1648800" cy="639720"/>
                <a:chOff x="9360" y="5016600"/>
                <a:chExt cx="1648800" cy="6397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147240" y="5016600"/>
                  <a:ext cx="13726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Symbol"/>
                      <a:ea typeface="Symbol"/>
                    </a:rPr>
                    <a:t>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9360" y="5016600"/>
                  <a:ext cx="164880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1658880" y="5016600"/>
                <a:ext cx="1186200" cy="639720"/>
                <a:chOff x="1658880" y="5016600"/>
                <a:chExt cx="1186200" cy="6397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1796040" y="5016600"/>
                  <a:ext cx="9115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1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1658880" y="5016600"/>
                  <a:ext cx="118620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2846160" y="5016600"/>
                <a:ext cx="3308400" cy="639720"/>
                <a:chOff x="2846160" y="5016600"/>
                <a:chExt cx="3308400" cy="6397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2984400" y="5016600"/>
                  <a:ext cx="30319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Courier New"/>
                    </a:rPr>
                    <a:t> 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2846160" y="5016600"/>
                  <a:ext cx="330840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6155280" y="5016600"/>
                <a:ext cx="1609560" cy="639720"/>
                <a:chOff x="6155280" y="5016600"/>
                <a:chExt cx="1609560" cy="63972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6292440" y="5016600"/>
                  <a:ext cx="13348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Courier New"/>
                    </a:rPr>
                    <a:t> 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6155280" y="5016600"/>
                  <a:ext cx="160956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7765920" y="5016600"/>
                <a:ext cx="1366560" cy="639720"/>
                <a:chOff x="7765920" y="5016600"/>
                <a:chExt cx="1366560" cy="63972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7903800" y="5016600"/>
                  <a:ext cx="10904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25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7765920" y="5016600"/>
                  <a:ext cx="136656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</p:grpSp>
        <p:sp>
          <p:nvSpPr>
            <p:cNvPr id="327" name=""/>
            <p:cNvSpPr/>
            <p:nvPr/>
          </p:nvSpPr>
          <p:spPr>
            <a:xfrm>
              <a:off x="0" y="990720"/>
              <a:ext cx="9143280" cy="4670280"/>
            </a:xfrm>
            <a:prstGeom prst="rect">
              <a:avLst/>
            </a:prstGeom>
            <a:noFill/>
            <a:ln cap="sq"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4419720" y="2362320"/>
            <a:ext cx="380880" cy="533160"/>
          </a:xfrm>
          <a:prstGeom prst="ellipse">
            <a:avLst/>
          </a:prstGeom>
          <a:solidFill>
            <a:srgbClr val="ffffcc">
              <a:alpha val="50000"/>
            </a:srgbClr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9" name=""/>
          <p:cNvSpPr/>
          <p:nvPr/>
        </p:nvSpPr>
        <p:spPr>
          <a:xfrm>
            <a:off x="4419720" y="4343400"/>
            <a:ext cx="380880" cy="533520"/>
          </a:xfrm>
          <a:prstGeom prst="ellipse">
            <a:avLst/>
          </a:prstGeom>
          <a:solidFill>
            <a:srgbClr val="ffffcc">
              <a:alpha val="50000"/>
            </a:srgbClr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0" name=""/>
          <p:cNvSpPr/>
          <p:nvPr/>
        </p:nvSpPr>
        <p:spPr>
          <a:xfrm>
            <a:off x="4419720" y="3657600"/>
            <a:ext cx="380880" cy="533520"/>
          </a:xfrm>
          <a:prstGeom prst="ellipse">
            <a:avLst/>
          </a:prstGeom>
          <a:solidFill>
            <a:srgbClr val="ffffcc">
              <a:alpha val="50000"/>
            </a:srgbClr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1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rystal Field Effect on XAS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2" name=""/>
          <p:cNvSpPr/>
          <p:nvPr/>
        </p:nvSpPr>
        <p:spPr>
          <a:xfrm>
            <a:off x="1623960" y="5791320"/>
            <a:ext cx="5642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2800" spc="-1" strike="noStrike" baseline="30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|dipole|</a:t>
            </a:r>
            <a:r>
              <a:rPr b="0" lang="en-US" sz="2800" spc="-1" strike="noStrike" baseline="30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&gt; goes to &lt;A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|T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|T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5T16:21:10Z</dcterms:created>
  <dc:creator>F.M.F. de Groot</dc:creator>
  <dc:description/>
  <dc:language>en-US</dc:language>
  <cp:lastModifiedBy>Groot113</cp:lastModifiedBy>
  <cp:lastPrinted>2000-09-25T15:41:05Z</cp:lastPrinted>
  <dcterms:modified xsi:type="dcterms:W3CDTF">2007-02-13T21:38:46Z</dcterms:modified>
  <cp:revision>252</cp:revision>
  <dc:subject/>
  <dc:title>Company Overview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vsf1.phys.rug.nl/~degroot/</vt:lpwstr>
  </property>
  <property fmtid="{D5CDD505-2E9C-101B-9397-08002B2CF9AE}" pid="9" name="LinkColor">
    <vt:r8>16711782</vt:r8>
  </property>
  <property fmtid="{D5CDD505-2E9C-101B-9397-08002B2CF9AE}" pid="10" name="MailAddress">
    <vt:lpwstr>F.M.F.deGroot@chem.uu.nl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My Document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-1</vt:r8>
  </property>
  <property fmtid="{D5CDD505-2E9C-101B-9397-08002B2CF9AE}" pid="20" name="UseBrowserColor">
    <vt:bool>1</vt:bool>
  </property>
  <property fmtid="{D5CDD505-2E9C-101B-9397-08002B2CF9AE}" pid="21" name="VisitedColor">
    <vt:r8>255</vt:r8>
  </property>
</Properties>
</file>